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FE19-5E00-4A2F-87EB-AB77A5B2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C686-CA80-483E-BBEA-B1152A90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AAF58-2B6A-4E1C-B774-C46409B6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D4B4-7B25-40F4-99B8-62B8A1CB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C924-6711-44C1-81F7-EAC5D7BB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7B00-A597-48D2-94ED-A3615B04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581D-2C7E-4DE3-A828-B185F835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DA35-312D-41EA-BD36-49493F0E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717A-BBDD-4E84-869E-261764FB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444A-D795-43B9-B485-D8E0D11A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4A18-FCC0-4058-89CD-A4937F3A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AE78-514A-4C92-B87B-EAF0816B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2DA5-1DEF-4ACC-9053-E58C9AD2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B585-7014-4EEC-8D03-9269BF6B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9CFE-A3AC-4BF6-81B5-BB170103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C1AA-349F-460D-ABFB-659985D5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B605-65BB-4B5A-8731-D7C981C3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04C5-FE3C-4D3B-B23B-0EE2AF9D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9039-6353-4D94-BCD2-424C665E0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BD135-464C-4581-862B-255A0BA5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E771-892F-4895-8CF8-3CBB7E7E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D9DF-EE72-4A79-92C9-6618C990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0C6E-BE66-4F0C-8BD7-CCD43B5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82DF-CD01-412B-A8C5-C1033799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47B4-1EC8-4B92-9733-0936388F79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D0D8-9085-4C2B-A464-C3A8C4E4F2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здание консольных прилож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доцен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8901-0A20-4595-8CC4-C474B7C10CC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ескрипторы устройств ввода-вывода кон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ым устройствам ввода-вывода консоли соответствуют дескрипторы, получить которые можно используя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HANDLE GetStdHandle(DWORD nStdHandle)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nStdHandl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строй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ое устрой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STD_INPUT_HAND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ое устрой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TD_OUTPUT_HAND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ое устрой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а ошиб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STD_ERROR_HAND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обходимости стандартные устройства могут быть переназначены, например для ввода-вывода в файлы. Для этого используют функ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OOL SetStdHandl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WORD nStdHandle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устройство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ANDLE hHandle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дескрипто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857AB-8EAD-4F0F-9195-1FCD9BBBEA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фера ввода-вывода кон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здании консоли создаются входной буфер и выходной буфер – буфер экр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дной буфер используется для хранения информации о входных событиях: нажатиях на клавишу клавиатуры или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 экрана – двумерный массив, определяющий окно консоли и содержащий символы и их атрибуты (цвет символов и фо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еобходимости, используя функцию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reateConsoleScreenBuffe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создать еще несколько буферов экрана, однако в каждый момент времени с окном консоли связан только один буфер. Для выбора активного буфера используется функция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etConsoleActiveScreenBuff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0B8CB-4D83-4803-A975-A6A48B0453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правление режимом ввода-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антика операции ввода-вывода зависит от режима функционирования консоли. Для чтения и установки этого режима используются функ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читать текущий режим функционирования кон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BOOL GetConsoleMod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HANDLE hConsoleHandle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дескриптор консо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PDWORD lpM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текущий реж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тановить текущий режим функционирования кон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BOOL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et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onsoleMod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HANDLE hConsoleHandle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дескриптор консо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PDWORD lpMo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текущий реж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18465-6247-497E-B36F-A15F3CB779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новные режимы функционирования конс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жим функционирования консоли задается флаг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ввода с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NABLE_LINE_INPU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вод строки д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жат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NABLE_ECHO_INPU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вод с «эхо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NABLE_PROCESSED_INPU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работка управляющих комбинаций, наприм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без помещения в буф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вывода (в том числе «эхо») на конс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NABLE_PROCESSED_OUTPU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полнение управляющ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C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ей, включающих звонок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 табуляции, переход на новую строку и т.д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NABLE_WRAP_AT_EOL_OUTPU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автоматический переход курсора на следующую строку и автоматическая прокрутка окна консоли при достижении конца ок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мбинирования флаг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gs   DWORD ENABLE_ECHO_INPUT OR ENABLE_LINE_INPU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FF63C-3664-4FCD-8F53-92B699C045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2.2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рганизация ввода с консо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вод символа или строки с консоли с «эхо» или без  «эхо» в буф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OOL ReadConsol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ANDLE hConsoleInput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дескриптор ввода с консоли</a:t>
            </a:r>
            <a:r>
              <a:rPr b="1" lang="en-US" sz="2000" spc="-1" strike="noStrike">
                <a:solidFill>
                  <a:srgbClr val="6b91f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PVOID lpBuffer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адрес буфе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WORD nNumberOfCharsToRead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количество ввод. симв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PDWORD lpNumberOfCharsRead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адрес кол-ва введ. симв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PVOID lpReserv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зарезервирован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 осуществляется в соответствии с установленным режимом функционирования кон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9251-ACD7-4708-8E89-010262E56A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2 Ввод строки и символа с конс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urier New"/>
              </a:rPr>
              <a:t>include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windows.inc   </a:t>
            </a:r>
            <a:r>
              <a:rPr b="1" i="1" lang="ru-RU" sz="2400" spc="-1" strike="noStrike">
                <a:solidFill>
                  <a:srgbClr val="666699"/>
                </a:solidFill>
                <a:latin typeface="Courier New"/>
              </a:rPr>
              <a:t>; прототипы функций </a:t>
            </a:r>
            <a:r>
              <a:rPr b="1" i="1" lang="ru-RU" sz="2400" spc="-1" strike="noStrike">
                <a:solidFill>
                  <a:srgbClr val="666699"/>
                </a:solidFill>
                <a:latin typeface="Arial"/>
              </a:rPr>
              <a:t>API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BufSize =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4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buffer      BYTE  BufSize  DUP (?)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charbuffer  BYTE  ?,0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4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stdInHandle DWO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bytesRead   DWO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saveFlags   DWORD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106E2-1644-47F0-8D2E-0EC98EEF4C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900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2 Ввод строки и символа с консол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 определяем дескрипто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GetStdHandle,STD_INPUT_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stdInHandle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 читаем строку с кон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ReadConsole,stdInHandle,ADDR buff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Size-2,ADDR bytesRead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 читаем состояние кон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GetConsoleMode,stdInHandle,ADDR save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 устанавливаем режим консоли: ввод без «эхо» одного симв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etConsoleMode,stdInHandle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 читаем символ с кон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ReadConsole,stdInHandle,ADDR charbuff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,ADDR bytesRead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 восстанавливаем режим функционирования конс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etConsoleMode,stdInHandle,save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7F18-7DEE-44BE-BDAD-022F207397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ругие функции в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GetNumberOfConsoleInputEvent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лучить количество необработанных сообщ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PeekConsoleInpu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рочитать сообщения о событиях клавиатуры и мыши без удаления из буфер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ReadConsoleInpu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вести сообщений о событиях клавиатуры и мыш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lushConsoleInputBuff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чистить буфер вв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GetNumberOfConsoleMouseButto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получить количество используемых клавиш мыш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од из буфера экр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ReadConsoleOutpu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вод символов и атрибутов из буфера экр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ReadConsoleOutputAttrib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вод атрибутов из буфера экр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ReadConsoleOutputCharac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ввод символов из буфера эк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CAB9-924F-4CF0-A3B5-B5B1B9F64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2.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рганизация вывода на кон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вод символьной строки на консо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BOOL WriteConsol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HANDLE hConsoleOutput,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дескриптор выв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CONST VOID *lpBuffer,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указатель на выводимый буф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DWORD nNumberOfCharsToWrite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кол-во вывод. симво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LPDWORD lpNumberOfCharsWritte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адрес кол-ва вывед.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LPVOID lpReserve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зарезервирова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 осуществляется в соответствии с установленным режимом функционирования кон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73C0-6C6E-4C50-8537-EE1EF635C1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3 Вывод на конс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l     EQU   &lt;0dh,0ah&g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конец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essage 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YTE "----------------- Console1.asm -------------------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YTE endl,en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YTE "This is a simple demonstration of console ",en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YTE "mode output, using the WriteConsole ",en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YTE "functions.",en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YTE "--------------------------------------------------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YTE endl,endl,en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messageSize = ($-mess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dOutHandle  DWORD 0   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дескриптор 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ytesWritten  DWORD ?   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количество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CCAF7-51ED-4A02-853F-5695E9E654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1 Особенности функц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Струк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исаниях функц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синтакси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ие типов С++ и ассембл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OO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огическое знач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STR, LPCSTR, LPS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PTR BYTE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тели на стро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LORR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ц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HAN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ескриптор инструмента, окна и т.д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S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линное цел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 зна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PA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вый параметр сооб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PARA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WOR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торой параметр сообщ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RES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DWOR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обработки сообщ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IN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WORD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 без зна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INPR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OR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указатель на процед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EDFCF-413B-4F85-9AB4-D5024C4989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3 Вывод на консоль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GetStdHandle, STD_OUTPUT_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stdOutHandle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вывод строки на кон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WriteConsole,stdOutHand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message,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адрес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essageSize,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размер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bytesWritten,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количество вывед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не использ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86090-4D9A-4428-A959-9E97CB5737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2.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Управление окном, курсором и буф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511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но консоли представляет собой окошко, через которое мы видим содержимое буфера эк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 буфера экрана может превышать размер окна, тогда оно содержит полосы прокру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etConsoleWindowInf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зволяет установить позицию окна относительно содержимого буф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GetLargestConsoleWindowSize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воляет определить максимальный размер ок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GetConsoleScreenBufferInf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звращает информацию о буфере экр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crollConsoleScreenBuff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еносит текст в другое место буф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51640" y="1484280"/>
            <a:ext cx="3241440" cy="518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aaaaaaaaaaaaaaaa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80000" y="981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тивный буфер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2997360"/>
            <a:ext cx="2305080" cy="1944360"/>
          </a:xfrm>
          <a:prstGeom prst="roundRect">
            <a:avLst>
              <a:gd name="adj" fmla="val 16667"/>
            </a:avLst>
          </a:prstGeom>
          <a:solidFill>
            <a:srgbClr val="ffcc99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56360" y="4365720"/>
            <a:ext cx="17272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но конс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3573360"/>
            <a:ext cx="14472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16720" y="3141720"/>
            <a:ext cx="1008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р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8826-92D8-447D-8F62-168DDDC77C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вление окном, курсором и буфер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учение информации об окне и буфере экра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BOOL GetConsoleScreenBufferInfo(HANDLE hConsoleOutput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PCONSOLE_SCREEN_BUFFER_INFO lpConsoleScreenBufferInf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// адрес буфера информации об ок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CONSOLE_SCREEN_BUFFER_INF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Size                COOR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g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кол-во строк и стол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CursorPosition      COOR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g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позиция кур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wAttributes           WORD  ?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цвет символов и ф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rWindow              SMALL_RECT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g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размер 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MaximumWindowSize   COOR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g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макс. размер ок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CONSOLE_SCREEN_BUFFER_INF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MALL_R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ft      WORD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p       WORD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ight     WORD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ttom    WORD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MALL_REC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53DD-C692-4187-8C3A-C9265541EE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вление окном, курсором и буфер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тановка размера буфера экран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BOOL SetConsoleScreenBufferSiz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HANDLE hConsoleOutput,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дескриптор буфера вывод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OORD dwSiz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новый размер буфера консол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);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7.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crSize  COORD  &lt;120,50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etConsoleScreenBufferSize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Handle,DWORD PTR scr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тановка нового заголовка окн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BOOL SetConsoleTitle(LPCTSTR lpConsoleTitl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7.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titleStr BYTE  "Console Demo Program"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etConsoleTitle,ADDR titleS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E5BB-DFE5-40B5-919B-A485BD55F2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вление окном, курсором и буфер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лучение информации о курсо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BOOL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GetConsoleCursorInfo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HANDLE hConsoleOutput,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дескриптор буфера вывод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CONSOLE_CURSOR_INFO lpConsoleCursorInf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// адрес информации о курсоре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CONSOLE_CURSOR_INF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Size    DWORD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Visible  DWORD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CONSOLE_CURSOR_INF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риме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ursorInfo  CONSOLE_CURSOR_INFO &l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GetConsoleCursorInfo,outHand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cursor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AAD16-E0A9-4D9D-A30B-D78A076DFBC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вление окном, курсором и буфер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тановка информации о курсо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BOOL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etConsoleCursorInfo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HANDLE hConsoleOutput,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дескриптор буфера вывод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CONST CONSOLE_CURSOR_INFO *lpConsoleCursorInf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// адрес информации о курсоре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CONSOLE_CURSOR_INF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Size    DWORD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Visible  DWORD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CONSOLE_CURSOR_INF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риме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 установка размера курсора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ursorInfo  CONSOLE_CURSOR_INFO &l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cursorInfo.dwSize,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etConsoleCursorInfo,outHand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cursor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2A154-5BD2-4EA6-B3F6-64C9B6C24B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вление окном, курсором и буфер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тановка позиции курс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BOOL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etConsoleCursorPosition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HANDLE hConsoleOutpu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дескриптор буфера вывод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OORD dwCursorPosi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новые координаты курсор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ример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yPos    COORD  &lt;2,5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etConsoleCursorPosition,outHand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ORD PTR xyPos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60C30-872B-4D6A-882D-4DED809ECE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2.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обенности вывода на консо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8930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ов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GROUND_BLUE, FOREGROUND_GREEN, FOREGROUND_RED, FOREGROUND_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а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_BLUE, BACKGROUND_GREEN, BACKGROUND_RED, and BACKGROUND_INT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асный символ на белом фон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GROUND_RED | BACKGROUND_RED | BACKGROUND_GREEN | BACKGROUND_B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1125360"/>
            <a:ext cx="35892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58920" y="1125360"/>
            <a:ext cx="35892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19280" y="1125360"/>
            <a:ext cx="35892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1125360"/>
            <a:ext cx="35892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40000" y="1125360"/>
            <a:ext cx="37296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1125360"/>
            <a:ext cx="35892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59280" y="1125360"/>
            <a:ext cx="35856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9640" y="1125360"/>
            <a:ext cx="358560" cy="358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763640" y="1052280"/>
            <a:ext cx="71280" cy="108108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3205080" y="1052280"/>
            <a:ext cx="71280" cy="108108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1773360"/>
            <a:ext cx="1511280" cy="433440"/>
          </a:xfrm>
          <a:prstGeom prst="wedgeRoundRectCallout">
            <a:avLst>
              <a:gd name="adj1" fmla="val 41175"/>
              <a:gd name="adj2" fmla="val -8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вет ф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1773360"/>
            <a:ext cx="2087640" cy="433440"/>
          </a:xfrm>
          <a:prstGeom prst="wedgeRoundRectCallout">
            <a:avLst>
              <a:gd name="adj1" fmla="val -24981"/>
              <a:gd name="adj2" fmla="val -811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вет симв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A40B-13A0-4977-A2A3-52C1C5445E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обенности вывода на консо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вод атрибут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OOL WriteConsoleOutputAttribut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ANDLE hConsoleOutput,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дескриптор буфера вывод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ONST WORD *lpAttribute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указатель на буфер атрибу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WORD nLength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количество знакоме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OORD wWriteCoor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координаты нач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PDWORD lpNumberOfAttrsWrit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указатель на кол-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7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ttributes WORD 0Fh,0Eh,0Dh,0Ch,0Bh,0Ah,9,8,7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WORD 5,4,3,2,1,0F0h,0E0h,0D0h,0C0h,0B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yPos      COORD &lt;10,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ellsWritten D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WriteConsoleOutputAttribute,outHand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attributes,20,DWORD PTR xyPos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cells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7566-101F-40D5-80A5-C10BD586F1C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обенности вывода на консо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вод символов с текущими атрибутами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OO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WriteConsoleOutputCharact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ANDLE hConsoleOutput,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дескриптор буфера вывода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PCTSTR lpCharacter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указатель на буфер символ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WORD nLength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количество 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OORD dwWriteCoord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координаты нача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PDWORD lpNumberOfCharsWrit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указатель на кол-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;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7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buffer     BYTE 1,2,3,4,5,6,7,8,9,10,11,12,13,14,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BYTE 16,17,18,19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BufSize = ($ - buf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yPos      COORD &lt;10,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ellsWritten D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WriteConsoleOutputCharacter,outHand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buffer,BufSize,DWORD PTR xyP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cellsWri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CAE0-8E75-496F-A314-3C68778EF1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глашения об именовании данны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именем переменной указывается префикс 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левский;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мвольны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длинное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целое без зна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е и длинное целое со зна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-разрядное битовое поле (флаг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дескрипт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ый указа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а длинных целых – координаты точки экр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тель на стро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p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ый указатель на стро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е целое, содержащее значение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8E66F-AAD9-4118-92EC-9A7407AAE2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обенности вывода на консо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Установка текущего атрибута для выв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OOL SetConsoleTextAttribut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ANDLE hConsoleOutput,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дескрип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WORD wAttrib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цвет символа и ф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7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buffer1    DB   'AB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ellsWritten D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etConsoleTextAttribute,outHandle,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FOREGROUND_RED OR BACKGROUND_B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WriteConsole,outHandle,ADDR buffer1,2,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R cellsWritten,0</a:t>
            </a: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BB584-247D-41D3-AE52-ADC5746DC29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обенности вывода на консо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вод символов и атрибутов в заданный прямоугольник экр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BOOL WriteConsoleOutput(HANDLE hConsoleOutput,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дескрипт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ONST CHAR_INFO *lpBuffer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указатель на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OORD dwBufferSize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размер по х и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OORD dwBufferCoord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координаты верх. левого уг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PSMALL_RECT lpWriteReg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указатель на прямоу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_INFO 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      CHARTYPE &l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tributes WORD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_INFO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TYPE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nicodeChar    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ciiChar      db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TYPE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2B50-2967-45D3-A184-07212F73E82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обенности вывода на консо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7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xy     COORD &lt;2,3&gt;        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сколько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симво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ftxy  COORD &lt;0,0&gt;        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откуда из источ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rec    SMALL_RECT &lt;3,3,4,5&gt;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четырехугольник куд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2 CHAR_INFO 1 DUP \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&lt;&lt;1&gt;,4&gt;,&lt;&lt;2&gt;,1&gt;,&lt;&lt;3&gt;,2&gt;,&lt;&lt;4&gt;,3&gt;,&lt;&lt;5&gt;,2&gt;,&lt;&lt;6&gt;,3&gt;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WriteConsoleOutput,outHand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buffer2,DWORD PTR lxy,DWORD PTR leftxy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sr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5229360"/>
            <a:ext cx="863640" cy="865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797360"/>
            <a:ext cx="1800360" cy="1728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58920" y="5229360"/>
            <a:ext cx="3603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48360" y="5373720"/>
            <a:ext cx="358560" cy="504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403280" y="5373720"/>
            <a:ext cx="3745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14560" y="5229360"/>
            <a:ext cx="144360" cy="50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5120" y="537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5300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1366200" y="4976640"/>
            <a:ext cx="144720" cy="360360"/>
          </a:xfrm>
          <a:custGeom>
            <a:avLst/>
            <a:gdLst>
              <a:gd name="textAreaLeft" fmla="*/ 92520 w 144720"/>
              <a:gd name="textAreaRight" fmla="*/ 145080 w 14472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58920" y="47260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98920" y="4797360"/>
            <a:ext cx="144360" cy="504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11640" y="486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4787640" y="4508280"/>
            <a:ext cx="144360" cy="433440"/>
          </a:xfrm>
          <a:custGeom>
            <a:avLst/>
            <a:gdLst>
              <a:gd name="textAreaLeft" fmla="*/ 92160 w 144360"/>
              <a:gd name="textAreaRight" fmla="*/ 144360 w 144360"/>
              <a:gd name="textAreaTop" fmla="*/ 11160 h 433440"/>
              <a:gd name="textAreaBottom" fmla="*/ 422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16360" y="4365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0FBF-FF35-4391-BE5A-65FB73B2E0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Особенности вывода на консол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учить номер кодовой страницы вв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UINT GetConsoleCP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тановить номер кодовой страницы вв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OOL SetConsoleCP(UINT wCodePag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лучить номер кодовой страницы выв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UINT GetConsoleOutputCP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становить номер кодовой страницы вв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OOL SetConsoleOutputCP(UINT wCodePage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7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etConsoleOutputCP,12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76636-6846-4606-8EEB-2F74010D6E2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ругие функции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illConsoleOutputAttribu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ногократно выводит атрибут начиная с  заданной позиции экр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illConsoleOutputCharac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ногократно выводит символ начиная с  заданной позиции экран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WriteConsoleInpu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водит данных непосредственно в буфер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42136-D73B-4ED3-A496-52605A56AB8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3 Файловый ввод-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Функция создания нового файла или открытия существующе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HANDLE CreateFil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PCTSTR lpFileName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указатель на имя файл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ORD dwDesiredAccess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режим доступа (чтение-запись)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ORD dwShareMode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режим совместного использования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PSECURITY_ATTRIBUTES lpSecurityAttributes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адрес атрибутов безопасности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ORD dwCreationDistribution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действия при создании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ORD dwFlagsAndAttributes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атрибуты файл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HANDLE hTemplateFile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дескриптор файла-шабло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esiredAc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 если запрос к логическому устрой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_REA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доступ по чт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_WRIT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доступ по запис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_REA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GENERIC_WRITE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 по ч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E083-6127-45E1-9D6A-FFB1EF53DA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овый ввод-вывод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hareMo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разделяемый фай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curityAttributes=0 – права доступа не указываю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CreationDistribu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_NEW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 новый файл, если такой файл существует, то функция завершается аварий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TE_ALWAYS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ть новый файл, если такой файл существу-ет, то его содержимое уничтожае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_EXISTING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ь существующий файл, если файл не найден, то функция завершается аварий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_ALWAYS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ь существующий файл, если файл не найден, то он будет созда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NCATE_EXISTING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ь существующий файл для записи, т.е. стереть его содержимое, если файл не найден, то функция завершается с ошиб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B498-7CC8-483F-A73E-F494791606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7" dur="indefinite" restart="never" nodeType="tmRoot">
          <p:childTnLst>
            <p:seq>
              <p:cTn id="1808" dur="indefinite" nodeType="mainSeq">
                <p:childTnLst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овый ввод-вывод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lagsAndAttrib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_ATTRIBUTE_ARCHIVE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хивируемый фай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_ATTRIBUTE_HIDD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крытый фай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_ATTRIBUTE_NORMAL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ычный фай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_ATTRIBUTE_READON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файл только для чт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_ATTRIBUTE_TEMPORARY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 временного хранения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рытие существующего файла для запи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 CreateFile, ADDR FileName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_WRI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_NOT_SHARE,NULL,OPEN_EXISTING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_ATTRIBUTE_NORMA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закрытия фай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OOL CloseHandl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ANDLE hObjec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дескриптор закрываемого объект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942D-39B4-4815-8BA3-AF1560E7E54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1" dur="indefinite" restart="never" nodeType="tmRoot">
          <p:childTnLst>
            <p:seq>
              <p:cTn id="1842" dur="indefinite" nodeType="mainSeq">
                <p:childTnLst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овый ввод-вывод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чтения из 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OOL ReadFile(HANDLE hFile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дескриптор файл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PVOID lpBuffer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адрес буфер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WORD nNumberOfBytesToRead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количество бай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PDWORD lpNumberOfBytesRead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адрес количества реально прочитанных байт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POVERLAPPED lpOverlapped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адрес струк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синхронизации для асинхронного режим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записи в фай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BOOL WriteFil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HANDLE hFile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дескриптор файл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PCVOID lpBuffer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адрес буфера данных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ORD nNumberOfBytesToWrite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количество байт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PDWORD lpNumberOfBytesWritten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адрес количества записанных бай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POVERLAPPED lpOverlapped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адрес синхр.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93AF6-1D89-4C50-BFDF-37DEA43B7F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овый ввод-вывод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смещения файлового указате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WORD SetFilePointer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ANDLE hFile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дескриптор файл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ONG lDistanceToMove,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смещение файлового указател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LONG lpDistanceToMoveHigh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                  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адрес старшего слова 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64-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разр. смещения указател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DWORD dwMoveMethod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как смеща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Metod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ка, относительно которой задается смещ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_BEGI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начало фай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_CURREN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щее значение файлового указате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_END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фай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A0445-BF4C-41DB-BCE5-F7C39CB5EDB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7" dur="indefinite" restart="never" nodeType="tmRoot">
          <p:childTnLst>
            <p:seq>
              <p:cTn id="1978" dur="indefinite" nodeType="mainSeq">
                <p:childTnLst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ой называется упорядоченная группа переменных. Со струк-турой можно работать как с единым целым, передавая в процедуру указатель на нее, и с отдельными по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_структуры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RUCT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вн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1,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по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_структуры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гут описываться инициализированные и неинициализированные по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 с неиниц. пол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O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 WORD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 WORD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OOR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4767120"/>
            <a:ext cx="40338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 с иниц. пол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OORD0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  WORD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  WORD 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OORD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NDS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C7404-253B-419D-B4CC-3848C128A9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6 Создание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  BYTE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"This text is written to an output file.",0dh,0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Size = ($-buf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rrMsg   BYTE "Cannot create file",0dh,0a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ename BYTE "output.txt"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eHandle   DWORD ?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дескриптор 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ytesWritten DWORD ?  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количество записанных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07187-2993-4D49-9F66-1259EE0465E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6 Создание файл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INVOKE CreateFile,ADDR filename,GENERIC_WRIT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,NULL,CREATE_ALWAYS,FILE_ATTRIBUTE_NORMA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fileHandle,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сохранение дескрип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INVALID_HANDLE_VAL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 pro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err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 Quit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d:  INVOKE WriteFile,fileHandle,ADDR buff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Size,ADDR bytesWritten,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CloseHandle, file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QuitN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50A8E-5A12-4AD9-97D8-79DE560461D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7 Чтение из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    BYTE  80 DUP(?)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Size = ($-buff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rrMsg     BYTE "Cannot open file",0dh,0a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ename   BYTE  "output.txt"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eHandle DWORD ?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yteCount  D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CreateFile,ADDR filename,GENERIC_READ,0,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,OPEN_EXISTING,FILE_ATTRIBUTE_NORMA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fileHandle,E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1C5D7-ABEB-4928-94F2-B57E4499163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7 Чтение из файл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INVALID_HANDLE_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 pr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errMsg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 Quit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etFilePointer,fileHandle,5,0,FILE_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ReadFile,fileHandle,ADDR buffer,bufSiz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R byteCount,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CloseHandle, fileHan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buffe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Quit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7C12-83D1-458B-B890-96B447EE6C3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4 Управление време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ремя в миллисекундах, прошедшее с момента последней загрузки системы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ORD GetTickCount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держка выполнения программы на указанное врем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VOID Sleep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ORD dwMilliseconds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// время задержки в милисекундах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C8F5-EC61-4D11-88F9-59141BF789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8 Отслеживание интервала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IME_LIMIT = 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Time D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ot       BYTE  "."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GetTick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startTime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dot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вывод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leep,1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ожидание 100 м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GetTick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  EAX,startTim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проверка интерв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TIME_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  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14B96-FC49-43A9-898F-92F34B9F016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5" dur="indefinite" restart="never" nodeType="tmRoot">
          <p:childTnLst>
            <p:seq>
              <p:cTn id="2246" dur="indefinite" nodeType="mainSeq">
                <p:childTnLst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9 Секундо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imerStart PROTO,pSavedTime: 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imerStop  PROTO,pSavedTime: 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sg      BYTE   " milliseconds have elapsed",0dh,0a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imer1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rRes   DB     24 dup (' ')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sult   D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B779-E0F0-40CA-BE62-AB556EC3B9E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1" dur="indefinite" restart="never" nodeType="tmRoot">
          <p:childTnLst>
            <p:seq>
              <p:cTn id="2312" dur="indefinite" nodeType="mainSeq">
                <p:childTnLst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9 Секундоме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TimerStart,ADDR timer1 ; çàïóñê òàéìåð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leep, 5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 sleep for a 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TimerStop,ADDR timer1 ; îñòàíîâêà òàéìåð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Result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dwtoa,Result,ADDR str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str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BE7F-9B6B-4A5E-A810-A844FDE50C9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9" dur="indefinite" restart="never" nodeType="tmRoot">
          <p:childTnLst>
            <p:seq>
              <p:cTn id="2350" dur="indefinite" nodeType="mainSeq">
                <p:childTnLst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9 Секундомер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imerStart PROC uses eax esi,pSavedTime: 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начало работы секундо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GetTick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SI,pSaved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[ESI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imerStart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imerStop PROC uses esi,pSavedTime: 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конец работы секундо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GetTick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SI,pSaved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  EAX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imerStop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CAB1-285E-4689-B5A6-E7FE44134B0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7" dur="indefinite" restart="never" nodeType="tmRoot">
          <p:childTnLst>
            <p:seq>
              <p:cTn id="2388" dur="indefinite" nodeType="mainSeq">
                <p:childTnLst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5" fill="hold">
                      <p:stCondLst>
                        <p:cond delay="indefinite"/>
                      </p:stCondLst>
                      <p:childTnLst>
                        <p:par>
                          <p:cTn id="2406" fill="hold">
                            <p:stCondLst>
                              <p:cond delay="0"/>
                            </p:stCondLst>
                            <p:childTnLst>
                              <p:par>
                                <p:cTn id="2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fill="hold">
                      <p:stCondLst>
                        <p:cond delay="indefinite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5" fill="hold">
                      <p:stCondLst>
                        <p:cond delay="indefinite"/>
                      </p:stCondLst>
                      <p:childTnLst>
                        <p:par>
                          <p:cTn id="2426" fill="hold">
                            <p:stCondLst>
                              <p:cond delay="0"/>
                            </p:stCondLst>
                            <p:childTnLst>
                              <p:par>
                                <p:cTn id="2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явление переменных-структ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90741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е объявляются переменные-структуры. При этом  поля структур могут инициализирова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]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мя_структуры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&lt;[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значение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[,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значение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]...]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] 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мя_структуры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{ [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значение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] [,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значение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]...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и объявлении массива структу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[</a:t>
            </a:r>
            <a:r>
              <a:rPr b="0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мя_структуры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Courier New"/>
              </a:rPr>
              <a:t>константа</a:t>
            </a:r>
            <a:r>
              <a:rPr b="0" lang="en-US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DUP({[</a:t>
            </a:r>
            <a:r>
              <a:rPr b="0" lang="ru-RU" sz="2000" spc="-1" strike="noStrike">
                <a:solidFill>
                  <a:srgbClr val="00007d"/>
                </a:solidFill>
                <a:latin typeface="Courier New"/>
              </a:rPr>
              <a:t>значение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[</a:t>
            </a:r>
            <a:r>
              <a:rPr b="0" lang="en-US" sz="2000" spc="-1" strike="noStrike">
                <a:solidFill>
                  <a:srgbClr val="00007d"/>
                </a:solidFill>
                <a:latin typeface="Courier New"/>
              </a:rPr>
              <a:t>,</a:t>
            </a:r>
            <a:r>
              <a:rPr b="0" lang="ru-RU" sz="2000" spc="-1" strike="noStrike">
                <a:solidFill>
                  <a:srgbClr val="00007d"/>
                </a:solidFill>
                <a:latin typeface="Courier New"/>
              </a:rPr>
              <a:t>значение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…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]}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y   COORD  &lt;&g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структура с неинициализированными по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0Y0 COORD  &lt;4,5&g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структура с инициализиров. по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1Y1 COORD  &lt;,5&gt; </a:t>
            </a:r>
            <a:r>
              <a:rPr b="1" i="1" lang="en-US" sz="2000" spc="-1" strike="noStrike">
                <a:solidFill>
                  <a:srgbClr val="666699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инициализировано второе 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XY  COORD  2 DUP ({3,4},{5,6}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четыре (!)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е к полям структуры осуществляется с использованием точечной нот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    EAX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_структуры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_п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B542-A331-4551-A42E-3A5FFD062A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1 Определение текущего врем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Процедура определения текущего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OID GetLocalTime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YSTEMTIME lpSystemTime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//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адрес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Структур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TIM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TIME 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Year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Month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DayOfWeek WOR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Day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ur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Minute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Second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Milliseconds 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TIME EN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B400F-2515-4310-A466-4D4CA590EB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1 Определение текущего времен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includ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windows.inc   </a:t>
            </a:r>
            <a:r>
              <a:rPr b="1" i="1" lang="ru-RU" sz="2000" spc="-1" strike="noStrike">
                <a:solidFill>
                  <a:srgbClr val="666699"/>
                </a:solidFill>
                <a:latin typeface="Courier New"/>
              </a:rPr>
              <a:t>; прототипы функций 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AP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ysTime   SYSTEMTIME &l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heTimeIs BYTE  "The time is "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lonStr  BYTE  ":"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rlf      BYTE  13,1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work     D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      DB    1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GetLocalTime,ADDR sys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Out,ADDR TheTim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CFB8-F100-48FD-9705-E31B3B0DB9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7.1 Определение текущего времени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zx  EAX,sysTime.wHou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work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dwtoa,work,ADDR r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colonSt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":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zx  EAX,sysTime.wMinut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work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dwtoa,work,ADDR r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colonSt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":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zx  EAX,sysTime.wSeco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ru-RU" sz="2000" spc="-1" strike="noStrike">
                <a:solidFill>
                  <a:srgbClr val="666699"/>
                </a:solidFill>
                <a:latin typeface="Arial"/>
              </a:rPr>
              <a:t>;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work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dwtoa,work,ADDR re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Cr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F6F9-6A36-4E9E-9002-03C4C6DAA5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сольного реж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запуске любого приложения для него создается текстовое (консоль) или графическое ок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при компоновке приложения для него указ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/SUBSYSTEM:CONSO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консольное окно подключается и освобождается автоматиче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аче консоль необходимо создавать, используя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BOOL AllocConsole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свобождать, используя функц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BOOL FreeConsole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консолью связаны три стандартных устройства ввода-выв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ое устройство вв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ое устройство выво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ндартное устройство вывода сообщений об ошибк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122C-5E54-4023-AD75-A9BDE56EF3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0:29:02Z</dcterms:created>
  <dc:creator>Ivanova</dc:creator>
  <dc:description/>
  <dc:language>en-US</dc:language>
  <cp:lastModifiedBy>Галина Сергеевна Иванова</cp:lastModifiedBy>
  <dcterms:modified xsi:type="dcterms:W3CDTF">2009-01-22T14:23:01Z</dcterms:modified>
  <cp:revision>27</cp:revision>
  <dc:subject/>
  <dc:title>Глава 4   Организация консольного режима в Windows</dc:title>
</cp:coreProperties>
</file>