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DA372-99D1-4D93-A4EA-0A712095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CB95-A9AE-4469-8CC9-FA07AB6A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28E7-2DDF-4F10-A8AC-D0387A3A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E890-A7E0-4BF6-AB28-B9579AE8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7E04-4EFB-42AC-9580-DC06DC9E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D94C-493D-460D-93DF-1D3EAECA6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8770-B02F-42A2-8FE1-B9E8A8C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1534-DD6A-4A71-87FF-385F4478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5288-8CF1-49DD-A661-D9F62966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EF64-3E9B-437F-8307-FD212996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FBD-F435-4310-AFB6-42CF92D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53039-CCCB-418A-87A2-E533859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BBD3-98E9-4712-B59A-E7532CCC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16B7-2EDD-4924-AF7C-BEE225F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6B3D-66A9-45CF-ACDF-4CFC594A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B047-7FD9-4B16-9F3A-6C9E4EC4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F080-5267-46AF-BD3F-73B27436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7DF4-152D-468F-9C8D-8928625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7247-F71E-4940-8689-28162243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2070A-56BB-41A5-9561-49A92707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078C-E7F6-4F23-B238-00D09EF0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8D933-2D41-4D29-B903-1E8F47EA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2D668-5105-4105-B56E-72EA4819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D97D-D979-4C9B-8AB0-04BD0B90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AE4C-D53C-4165-9CB6-563818F3F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685-698C-409E-A8E5-068718130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8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DA49-1076-44F4-AD20-92229D9E89D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CB2AB-D99E-4F74-AC75-E8297B28CA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5487-862C-4501-83FA-21C0F6AB95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34CC-DFA2-4AF0-9662-5FB0E870E0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D11C-924A-4BA4-86C2-D60788B497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DF986-3FCB-4206-A480-3F23079429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B83B-AE58-431A-B5B4-C9921FC8F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555E-9CC3-4B7F-9A2C-351B051851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F8842-6782-473E-9CCF-41035C8E5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81B26-7C0F-4FA3-91DF-9E253B1C424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25E1-F7EC-4208-82FF-38035EEE4D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BB3A-4492-4F7F-BA70-FD34D88197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062B5-B546-48A4-975C-1F43EB2115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A80A-8868-47F4-B036-0B1394D7E6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752B-D770-42B2-A2A0-B1E4D4D105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D754-E855-45E2-AF64-A127A559B8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2300D-4175-4687-B365-FC3BB55BAB4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5A98-12C4-4243-9F3D-EDF944CE57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07498-4810-4914-8D5C-C45C4B8EF3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3566-3349-4C77-993C-4FA2D1A472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CC4E-6B48-4AF3-A880-944B35786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FD66-B43E-44AE-95B0-884838AFD7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F926-699B-4394-8B80-2E5B3B7B00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BDD2-3DEA-40DC-9C45-E855D7ED0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Галина Сергеевна Иванова</cp:lastModifiedBy>
  <dcterms:modified xsi:type="dcterms:W3CDTF">2009-01-22T14:25:01Z</dcterms:modified>
  <cp:revision>9</cp:revision>
  <dc:subject/>
  <dc:title>Глава 8   Макросредства ассемблера</dc:title>
</cp:coreProperties>
</file>