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A3BA-7F4D-4B92-8547-BB6644FD1A3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номеру прерывания аппаратно определяется дескриптор. 16 бит – 13 бит – индекс, определяющий дескриптор сегмента в таблице локальных или глобальных дескрипторов, би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пределяющий, какая из таблиц должна использоваться, и 3 бита, определяющих уровень привилег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1119-4C17-4151-B878-327E1A6C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E517-A8BA-4E62-A22C-9534CB1A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1CD9D-3712-4A5B-B38A-DA570BAC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17C31-285D-450B-B1E5-DB8CBD3F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D364-2CDA-4114-878A-4E2F06B9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F4A1-8576-46F2-BAD0-C8037829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9664-74B3-4103-B844-617F29EA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A80F-0AFE-493A-823C-04478C7B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AEA-3E8C-47CF-AEFB-FA8BEED7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435-8603-457E-95D3-69B5C1C2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C96E-2797-4DA8-A128-8C0643BA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2206-024F-4DC8-A38F-10F18234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8EFD-3C71-456D-8F05-2B45E5AE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974-ED1A-4255-B0E6-86F8D9E8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00DB-4342-4F19-891B-2C85A976F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1C3B-C54C-4A1E-81F2-A40872597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EE48-D732-433E-BD93-2DFA276A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045E6-D81E-4B25-BC23-72E185AA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E5D7-B7AE-44E7-8FAE-9ECC7F3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78BC-CA6D-49CF-9DF5-07294667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959A-3025-4591-95D9-7EB2C3E9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F60D-427E-4AE5-8416-56B70BDA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25A2-2548-434B-A555-C881AA2A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BCE0-B748-4D5F-8068-0EEA8DE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814C-3E42-42A1-9681-5EE239C1F69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4E9B-8365-4E03-8622-1EB1D0E1F9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6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Управление устройств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доцен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07D5-E50B-4823-A96C-CAB9659524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ботка прерываний в контексте текущей задач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5520" y="3492360"/>
            <a:ext cx="1728720" cy="21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2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25520" y="3708360"/>
            <a:ext cx="1728720" cy="576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25520" y="4284720"/>
            <a:ext cx="1728720" cy="21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5520" y="4500720"/>
            <a:ext cx="1728720" cy="7207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5520" y="5221440"/>
            <a:ext cx="1728720" cy="215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4437000"/>
            <a:ext cx="247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82520" y="2205000"/>
            <a:ext cx="0" cy="22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3068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исключ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59280" y="4653000"/>
            <a:ext cx="1368360" cy="28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59280" y="5229360"/>
            <a:ext cx="1368360" cy="288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4941720"/>
            <a:ext cx="1368360" cy="28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59280" y="3789360"/>
            <a:ext cx="1368360" cy="865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43280" y="3141720"/>
            <a:ext cx="1728720" cy="3585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7720"/>
            <a:ext cx="17287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41128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43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2133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1280" y="278136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4788000" y="213336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03640" y="1917720"/>
            <a:ext cx="9367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д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0360" y="1917720"/>
            <a:ext cx="36036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00720" y="1917720"/>
            <a:ext cx="50328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88000" y="2133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96000" y="2852640"/>
            <a:ext cx="1728720" cy="21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96000" y="3068640"/>
            <a:ext cx="1728720" cy="576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3645000"/>
            <a:ext cx="1728720" cy="215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6000" y="3860640"/>
            <a:ext cx="1728720" cy="432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96000" y="2492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0" y="4292640"/>
            <a:ext cx="1728720" cy="21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96000" y="4986360"/>
            <a:ext cx="1728720" cy="21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6000" y="5202360"/>
            <a:ext cx="1728720" cy="57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000" y="5778360"/>
            <a:ext cx="1728720" cy="216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скриптор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0" y="5994360"/>
            <a:ext cx="1728720" cy="4320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796000" y="4626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96000" y="6426360"/>
            <a:ext cx="1728720" cy="2156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14036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140360" y="2922120"/>
            <a:ext cx="6998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427280" y="4797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427640" y="5084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4848120" y="2923920"/>
            <a:ext cx="0" cy="184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148360" y="2276280"/>
            <a:ext cx="0" cy="27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364000" y="227628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64000" y="587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6400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236000" y="1628640"/>
            <a:ext cx="1728720" cy="7923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егис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ескри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г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24720" y="37180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8244000" y="24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700360" y="3357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00360" y="33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5373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2565360"/>
            <a:ext cx="144000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гистр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360" y="2924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27280" y="24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35280" y="1773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EE005-A88B-4282-BD9C-A87E817CB1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 обработки прерывания в контексте текущей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ек помещ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стр флаго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LAG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стр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ескриптор – коммутатор прерывания, то запрещаются другие преры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 селектора из дескриптора прерываний используется для индексирования таблицы дескрипторов задачи, дескриптор сегмента заносится в скрытый регистр, а смещение относительно начала нового сегмента кода определяется полем смещения из дескриптора прер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0CB5-0617-4CCC-B6F9-0F905AD834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 обработки прерывания с переключением на новую задач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храняются все рабочие регистр процессора в текущем сегменте состояния задач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ая задача отмечается как занят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електору выбирается нов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загружается состояние нов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ется би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овая задач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ле обратной связ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ещается селектор прерванной зада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ются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:EI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ой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0D4E-D757-4D26-907A-563F5892A5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35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правление клавиатур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08360" y="1628640"/>
            <a:ext cx="194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з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ф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052720" y="2133720"/>
            <a:ext cx="1657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119700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нажатия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мер клавиш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д отпуск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110000 0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мер клавиш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08360" y="3213000"/>
            <a:ext cx="1944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45080" y="2494080"/>
            <a:ext cx="0" cy="71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45080" y="3933720"/>
            <a:ext cx="0" cy="71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916360" y="357336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3573360"/>
            <a:ext cx="719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57720"/>
            <a:ext cx="208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ан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RL-ALT-DE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61080" y="25653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рт 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45080" y="3213000"/>
            <a:ext cx="1944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08360" y="4653000"/>
            <a:ext cx="1944720" cy="863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фе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052720" y="5950080"/>
            <a:ext cx="1944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16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19640" y="5950080"/>
            <a:ext cx="194472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 2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060360" y="5487840"/>
            <a:ext cx="107964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186520" y="5487840"/>
            <a:ext cx="1041120" cy="4622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940360" y="1844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6000" y="486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88000" y="400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код, ко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ширенн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n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836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альны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9C8B-2BD4-4109-9E01-D37497CB9D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ирование порта клави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47512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_9h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  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     AL,6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     AL,6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A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      AL,8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  61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AL,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  61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Обработка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AL,2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  20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940360" y="342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940360" y="162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40360" y="3429000"/>
            <a:ext cx="79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73272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32720" y="2708280"/>
            <a:ext cx="792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524720" y="2708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24720" y="3429000"/>
            <a:ext cx="1079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1052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1052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534160" y="2924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66360" y="143208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ый разря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а 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C99D-1A3E-479F-A0F8-8F2FFC887A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айт состояния клави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95640" y="1125360"/>
            <a:ext cx="5832360" cy="23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– 1 – режим вставк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– 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прописных букв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sLo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цифровой клавиатур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Lo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жим прокрутк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llLo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1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1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– 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ы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1773360"/>
            <a:ext cx="7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95640" y="4006800"/>
            <a:ext cx="5832360" cy="23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– 1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– 1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s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1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mLoc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1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rollLoc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1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жим пауз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 - NumLoc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71640" y="4654440"/>
            <a:ext cx="78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C6CF2-0045-471F-B3C0-36E5C91F1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93916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Управление монитором. Текстовы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2560" y="981000"/>
            <a:ext cx="4753080" cy="287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40000" y="907920"/>
            <a:ext cx="0" cy="307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56000" y="907920"/>
            <a:ext cx="0" cy="307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19162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20500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40000" y="1916280"/>
            <a:ext cx="21600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00000" y="4508640"/>
            <a:ext cx="69850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28720" y="4148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ео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61928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7964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34000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5928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41964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692360" y="5300640"/>
            <a:ext cx="158436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3800" y="49402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д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76720" y="4940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триб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692360" y="4795920"/>
            <a:ext cx="13669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3779640" y="4795920"/>
            <a:ext cx="122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419640" y="5660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397320" y="633240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рц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728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5300640"/>
            <a:ext cx="172692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70836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36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5600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88000" y="530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566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787640" y="56610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94880" y="573408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924360" y="566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40360" y="5661000"/>
            <a:ext cx="215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11640" y="57340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77080" y="1268280"/>
            <a:ext cx="1440000" cy="230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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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14160" y="3645000"/>
            <a:ext cx="74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6360" y="3645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7093080" y="3141720"/>
            <a:ext cx="21564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7956360" y="3429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58160" y="1413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35640" y="4941720"/>
            <a:ext cx="354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идеопамяти для каждого знакоместа хранятся код символа и его атриб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87CA-443B-4025-9E6E-A60BAE3C34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фический реж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560" y="5084640"/>
            <a:ext cx="88930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видеопамяти хранится информация о цвете каждой точки. Формат хранения зависит от реж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2560" y="981000"/>
            <a:ext cx="4753080" cy="2879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56000" y="907920"/>
            <a:ext cx="0" cy="307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191628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557440" y="141300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4508640"/>
            <a:ext cx="69850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28720" y="41482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ео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5892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61928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97964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4000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5928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41964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80000" y="45086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56000" y="1916280"/>
            <a:ext cx="1008000" cy="24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DEE6-915B-4289-8490-B1541E3143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жимы работы мони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395280" y="981000"/>
          <a:ext cx="8229600" cy="5237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ли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цв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ов на экра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точка – 1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онохромны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+ ф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точка – 2 б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палитры по 3 ц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+ фо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точка – 4 б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регис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8 (6) бит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GBr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точка – 8 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G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регист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24 (18) би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RRR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GGGG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2621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7B8E-F79A-4E4D-A3BC-02800547A5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Графический режи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V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а – 1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буфера в реальном режиме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000: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пикселя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000:00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3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x)= A000:00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6*y+64*y+x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A000:000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&lt;&lt;8+y&lt;&lt;6+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алитро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С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аска палитры: 0 – цвет фона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h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бой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С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екс регистра палитры для чт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С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екс регистра палитры для за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С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(по одному: красный, зеленый, син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пали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X,3C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AL,0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   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X,3C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AL,&l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омер регистр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   DX,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435640" y="4292640"/>
            <a:ext cx="280980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c    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AL,&lt;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красный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   DX,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AL,&lt;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зеленый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   DX,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AL,&lt;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синий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    DX,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03640" y="4221000"/>
            <a:ext cx="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A03A-52E1-4E6E-BE35-FD0A18EDA2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система прерыва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06200" y="1268280"/>
          <a:ext cx="9037800" cy="46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1268280"/>
                    <a:ext cx="9037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50920" y="609300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нешние прерывания – асинхронные. Внутренние – синхро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9079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режим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808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0B83-757C-4057-8DF6-0B4D64C35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MOS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МО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4452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ий объем энергозависимой памяти составляет 64 байта (от 00h до 3Fh); доступ к байта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амя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з порт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0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ный – содержит номер бай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1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рт данн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мое памя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 – 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асы реальног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– 9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м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 – 0C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стр состояния часов – бит 7: 1 – норм. питание, 0 - не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хранится информация о конфигурации компьюте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 диагности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ус заверш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ис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м основной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C0FD-7036-4FE3-8AC8-0ECF878313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6.1 Программирование КМОП-сх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а, проверяющая заряд батар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ume cs: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 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    AL,0Dh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чей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out    70h,AL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е номера яч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in     AL,71h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ение из яче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test   AL,80h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ка бита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jnz    ok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7=1, перейти на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AH,02h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7=0, питания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DL,'-'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дем в знак этого символ мин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int    21h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jmp    exit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 на завер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ok:   mov    AH,02h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арея в поряд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DL,'+'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;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дем в знак этого симв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 21h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it: mov    AX,4C0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   2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  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de 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nd   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F12A-B25F-4F8E-88CC-4FD497E6B1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5 Управление таймер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59280" y="764640"/>
            <a:ext cx="6192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истема таймера работает от собственного генератора с частотой 1,19318 МГ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ймер включает три независимых канала. Каждый канал включает счетчи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6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-рый считает сигналы генератора, и регистр-фиксатор, значение в который заносится про-граммно. По достижении 0 значение фиксатора переписывается в счетч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л 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рт 40) – системные час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RQ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управлени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DOS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0,054945 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управлени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0,010014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л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рт 41) – управляет регенерацией оперативной пам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нал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рт 42) – используется по необходимости, в том числе для работы с динамик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кома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орт 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14360" y="1541520"/>
            <a:ext cx="129708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46000" y="19000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46000" y="2405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06360" y="2189160"/>
            <a:ext cx="129708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46000" y="348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06360" y="3268800"/>
            <a:ext cx="129708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062000" y="4565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206360" y="4349880"/>
            <a:ext cx="129708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503440" y="24051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3440" y="3484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03440" y="4565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82720" y="25495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782720" y="3628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782720" y="4709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6320" y="1052640"/>
            <a:ext cx="202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84033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495440" y="2692440"/>
            <a:ext cx="120168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кс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95440" y="3773520"/>
            <a:ext cx="120168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кс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95440" y="4854600"/>
            <a:ext cx="120168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икс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46000" y="4422600"/>
            <a:ext cx="216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3440" y="42069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3440" y="420696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3440" y="45655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8360" y="47102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2160" y="4710240"/>
            <a:ext cx="77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269640" y="4782600"/>
            <a:ext cx="730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001240" y="1828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001240" y="290844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001240" y="40608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720" y="5861160"/>
            <a:ext cx="129708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551D-F170-4907-A9BE-E8490582F9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вление таймером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программировании таймера в регистр команд заносится управляющ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1628640"/>
            <a:ext cx="14436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00000" y="1628640"/>
            <a:ext cx="14472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44720" y="1628640"/>
            <a:ext cx="14436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187280" y="1628640"/>
            <a:ext cx="14472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332000" y="1628640"/>
            <a:ext cx="14436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6360" y="1628640"/>
            <a:ext cx="14436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620720" y="1628640"/>
            <a:ext cx="14472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63640" y="1628640"/>
            <a:ext cx="14436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319480" y="1484280"/>
            <a:ext cx="68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т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способ задания константы пересче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– двоичный, 1 – двоично-десятичны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6200" y="1989000"/>
            <a:ext cx="84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ы 1.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ежим работы тайм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X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й би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0 – периодический, при достижении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1 – ждущий мультивибрат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– генератор импуль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– генератор прямоугольных импуль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0 – программно-запускаемый одновибрат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1 – аппаратно-запускаемый одновибрат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ы 4..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пособ загрузки конст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 – фиксация значения для чтения (приостановка, только для 2-го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 – чт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младшего бай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– чт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старшего бай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– чт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ь младшего, затем старшег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ты 6..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омер программируемого канала таймера:      00, 01, 1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– команда чтения всех счетчиков, для которо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.4 – что читать:  00 – состояние канала, затем значение счетчи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 – значение счетчика, 10 – состояние кан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.1 – каналы 0,1,2, кодируются установкой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7D16-F589-4DE3-B2B3-FEB557E1B0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вление таймером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тение текущего значения счетчика канала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Фиксируем текущее значение счетчика для чт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00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 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Если меняем способ чт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и, то перепрограммиру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 11 011 0 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рт 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читать из порта 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ладший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читать из порта 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ший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2069280" y="1972080"/>
            <a:ext cx="71640" cy="250920"/>
          </a:xfrm>
          <a:custGeom>
            <a:avLst/>
            <a:gdLst>
              <a:gd name="textAreaLeft" fmla="*/ 45720 w 71640"/>
              <a:gd name="textAreaRight" fmla="*/ 72000 w 71640"/>
              <a:gd name="textAreaTop" fmla="*/ 6480 h 250920"/>
              <a:gd name="textAreaBottom" fmla="*/ 244440 h 2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428560" y="1972800"/>
            <a:ext cx="71640" cy="249120"/>
          </a:xfrm>
          <a:custGeom>
            <a:avLst/>
            <a:gdLst>
              <a:gd name="textAreaLeft" fmla="*/ 45720 w 71640"/>
              <a:gd name="textAreaRight" fmla="*/ 72000 w 71640"/>
              <a:gd name="textAreaTop" fmla="*/ 6480 h 249120"/>
              <a:gd name="textAreaBottom" fmla="*/ 242640 h 24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4000" y="2133720"/>
            <a:ext cx="1295280" cy="360360"/>
          </a:xfrm>
          <a:prstGeom prst="wedgeRoundRectCallout">
            <a:avLst>
              <a:gd name="adj1" fmla="val 85416"/>
              <a:gd name="adj2" fmla="val -5000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71640" y="2205000"/>
            <a:ext cx="1295640" cy="360360"/>
          </a:xfrm>
          <a:prstGeom prst="wedgeRoundRectCallout">
            <a:avLst>
              <a:gd name="adj1" fmla="val -75490"/>
              <a:gd name="adj2" fmla="val -737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3573360"/>
            <a:ext cx="1295640" cy="360360"/>
          </a:xfrm>
          <a:prstGeom prst="wedgeRoundRectCallout">
            <a:avLst>
              <a:gd name="adj1" fmla="val 92277"/>
              <a:gd name="adj2" fmla="val -4603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2069280" y="3412080"/>
            <a:ext cx="71280" cy="250920"/>
          </a:xfrm>
          <a:custGeom>
            <a:avLst/>
            <a:gdLst>
              <a:gd name="textAreaLeft" fmla="*/ 45720 w 71280"/>
              <a:gd name="textAreaRight" fmla="*/ 71640 w 71280"/>
              <a:gd name="textAreaTop" fmla="*/ 6480 h 250920"/>
              <a:gd name="textAreaBottom" fmla="*/ 244440 h 2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rot="16200000">
            <a:off x="2428920" y="3413160"/>
            <a:ext cx="71280" cy="249120"/>
          </a:xfrm>
          <a:custGeom>
            <a:avLst/>
            <a:gdLst>
              <a:gd name="textAreaLeft" fmla="*/ 45720 w 71280"/>
              <a:gd name="textAreaRight" fmla="*/ 71640 w 71280"/>
              <a:gd name="textAreaTop" fmla="*/ 6480 h 249120"/>
              <a:gd name="textAreaBottom" fmla="*/ 242640 h 249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2844000" y="3358080"/>
            <a:ext cx="71280" cy="358920"/>
          </a:xfrm>
          <a:custGeom>
            <a:avLst/>
            <a:gdLst>
              <a:gd name="textAreaLeft" fmla="*/ 45720 w 71280"/>
              <a:gd name="textAreaRight" fmla="*/ 71640 w 7128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3204360" y="3429720"/>
            <a:ext cx="71280" cy="216000"/>
          </a:xfrm>
          <a:custGeom>
            <a:avLst/>
            <a:gdLst>
              <a:gd name="textAreaLeft" fmla="*/ 45720 w 71280"/>
              <a:gd name="textAreaRight" fmla="*/ 71640 w 7128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700360" y="3646440"/>
            <a:ext cx="287280" cy="287280"/>
          </a:xfrm>
          <a:prstGeom prst="wedgeRoundRectCallout">
            <a:avLst>
              <a:gd name="adj1" fmla="val 828"/>
              <a:gd name="adj2" fmla="val -6436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59280" y="3646440"/>
            <a:ext cx="1368360" cy="287280"/>
          </a:xfrm>
          <a:prstGeom prst="wedgeRoundRectCallout">
            <a:avLst>
              <a:gd name="adj1" fmla="val -32712"/>
              <a:gd name="adj2" fmla="val -593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ои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87280" y="3933720"/>
            <a:ext cx="1440000" cy="360360"/>
          </a:xfrm>
          <a:prstGeom prst="wedgeRoundRectCallout">
            <a:avLst>
              <a:gd name="adj1" fmla="val 38754"/>
              <a:gd name="adj2" fmla="val -13369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бай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27640" y="3429000"/>
            <a:ext cx="2160720" cy="2808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43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L,3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   43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   AL,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A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   AL,4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hg  AL, 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799D-65CF-4463-812D-CD774D9623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82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6.2 Программирование задержки с помощью таймер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8000" y="1125360"/>
            <a:ext cx="8856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ORG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1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ASSUME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CS:CODE,D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H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X,18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;запишем в счетчик 0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FFFh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= 65535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задержка 10 с: 10/(0.000000840336*65535)=181.5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H,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ax, 4c0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Waiting...10 c.',13,10,'$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xt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End',13,10,'$'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651640" y="2565360"/>
            <a:ext cx="1655640" cy="719280"/>
          </a:xfrm>
          <a:prstGeom prst="wedgeRoundRectCallout">
            <a:avLst>
              <a:gd name="adj1" fmla="val -72916"/>
              <a:gd name="adj2" fmla="val 137638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нер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E413-36ED-4DC2-94C5-14D28B929C3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71280" y="475920"/>
            <a:ext cx="817236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ирование задерж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9280" y="809280"/>
            <a:ext cx="8640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отключаем канал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,6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111111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1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0 - дв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.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 формат,010 – генератор импульсов,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; 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</a:rPr>
              <a:t>11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</a:rPr>
              <a:t> – 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чтение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/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запись ст.+ мл.,</a:t>
            </a:r>
            <a:r>
              <a:rPr b="1" i="1" lang="en-US" sz="2000" spc="-1" strike="noStrike">
                <a:solidFill>
                  <a:srgbClr val="0101ff"/>
                </a:solidFill>
                <a:latin typeface="Arial"/>
              </a:rPr>
              <a:t>10 – </a:t>
            </a:r>
            <a:r>
              <a:rPr b="1" i="1" lang="ru-RU" sz="2000" spc="-1" strike="noStrike">
                <a:solidFill>
                  <a:srgbClr val="0101ff"/>
                </a:solidFill>
                <a:latin typeface="Arial"/>
              </a:rPr>
              <a:t>2 ка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0110100B; </a:t>
            </a:r>
            <a:r>
              <a:rPr b="0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3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пишем младший байт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 – 111111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,0FF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42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пишем старший байт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 – 11111111B</a:t>
            </a: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2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включаем канал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6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,0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61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0FF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константа для сравнения «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307E-DC08-4AC1-81BB-636A657543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ирование задержк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фиксируем счетчик </a:t>
            </a: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2 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канала для чтения: 10 00 010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L,1000010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43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читаем младший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L,4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hg   A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; читаем старший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L,4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hg   A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101ff"/>
                </a:solidFill>
                <a:latin typeface="Courier New"/>
              </a:rPr>
              <a:t>проверка прохода нуля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  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4CBE-5FC5-4BE9-8FA6-ACEBE46E93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6 Управление будильником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Часы реально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ы реального времени реализует специальная микросхема, которая в качестве памяти использует ча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O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 к часам – чере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айвер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чтение системных часов (в тик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установка системных часов (в тиках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чтение системны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установка системных ча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чтение системной д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установка системной д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установка будильн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вонок» – генерация прерывания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=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ы (двоично-дес. формат),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ин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ых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0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рм.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уже был установл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сброс будильн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FBD96-181F-4B46-8FDA-ECDCE74B21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райв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15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Интервал ожидания и задер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 = 8300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интервал ожидания (при завершении интервала автоматически будет установле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:[BX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 = 8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бросить интервал ожи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задерж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.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X,D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вал в м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уществить задержку на 0,5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5*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200000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7A12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H, 8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м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   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000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X, 0a12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   15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EB64-6294-4649-AF0D-E18AC476319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 преры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ся установка флаг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ля немаскируемых прерываний этот пункт игнорируется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 прерывания разрешены, 0 - прерывания запреще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ерывание разрешено,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егмент программы обработки преры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P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мещение программы обработки прерыва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этого начинается выполнение программы обработки преры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авершению програм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бот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B3EF-9DE8-4312-A162-2160F0FF2E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755640" y="1700280"/>
            <a:ext cx="2879640" cy="287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32000" y="2205000"/>
            <a:ext cx="172728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гнитные д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355640" y="3715920"/>
            <a:ext cx="4465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держ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я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ип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трибу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мя соз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та созд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мер первого кластера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ну 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26920" y="119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26920" y="134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08000" y="2852640"/>
            <a:ext cx="576360" cy="576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39640" y="3141720"/>
            <a:ext cx="352764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195640" y="981000"/>
            <a:ext cx="0" cy="388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5640" y="11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35280" y="119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322360" y="7840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рона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342880" y="134136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оро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71640" y="3645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р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411280" y="2205000"/>
            <a:ext cx="108108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484360" y="2997360"/>
            <a:ext cx="1224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916360" y="2492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348000" y="112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03640" y="112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059280" y="112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03640" y="1125360"/>
            <a:ext cx="338472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ая загрузоч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003640" y="1413000"/>
            <a:ext cx="3384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рузоч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03640" y="1700280"/>
            <a:ext cx="3384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1,FA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03640" y="1989000"/>
            <a:ext cx="338472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и и фай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003640" y="2276640"/>
            <a:ext cx="3384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логических дис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003640" y="2565360"/>
            <a:ext cx="3384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грузочная зап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03640" y="2852640"/>
            <a:ext cx="3384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1,FA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03640" y="3141720"/>
            <a:ext cx="3384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и и фай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388360" y="1413000"/>
            <a:ext cx="144360" cy="8636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88360" y="2565360"/>
            <a:ext cx="144360" cy="792360"/>
          </a:xfrm>
          <a:custGeom>
            <a:avLst/>
            <a:gdLst>
              <a:gd name="textAreaLeft" fmla="*/ 0 w 144360"/>
              <a:gd name="textAreaRight" fmla="*/ 52200 w 144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537760" y="166212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537760" y="27813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4000" y="5373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ласт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минимальный фрагмент дисковой памяти, который отводится под фай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4574-E6D1-4E4C-94C4-9D19DEA3703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T – File Allocation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, по которой определяется последовательность кластеров 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статус класт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боде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 – номер следующего кластера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нят – признак последнего кластера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режд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4581360"/>
            <a:ext cx="165564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84360" y="48690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51562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1120" y="54403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16360" y="458316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916360" y="487044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916360" y="5157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6360" y="5446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8000" y="416880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620720" y="458100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918520" y="4221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813800" y="5013360"/>
            <a:ext cx="50472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13800" y="530208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13800" y="5589720"/>
            <a:ext cx="50472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13800" y="587844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21440" y="4870440"/>
            <a:ext cx="187164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21440" y="5230800"/>
            <a:ext cx="187164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221440" y="5591160"/>
            <a:ext cx="1871640" cy="289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21440" y="5951520"/>
            <a:ext cx="187164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4356000" y="4888080"/>
            <a:ext cx="868320" cy="12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93080" y="5013360"/>
            <a:ext cx="72072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13800" y="4726080"/>
            <a:ext cx="50472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813800" y="4437000"/>
            <a:ext cx="50472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298360" y="4386240"/>
            <a:ext cx="30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93080" y="5373720"/>
            <a:ext cx="72072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93080" y="5734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7093080" y="6021000"/>
            <a:ext cx="72072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221440" y="4510080"/>
            <a:ext cx="187164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21440" y="4149720"/>
            <a:ext cx="1871640" cy="2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93080" y="4654440"/>
            <a:ext cx="72072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093080" y="429408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794000" y="395280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582520" y="378936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ас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221440" y="5229360"/>
            <a:ext cx="863280" cy="288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BD8AA-2BA3-43DF-86AB-B4B2065C1B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вление файлами через дескрип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580000" y="1341360"/>
            <a:ext cx="244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F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80000" y="198900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234936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80000" y="270828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80000" y="306864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580000" y="342900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80000" y="378936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80000" y="4724280"/>
            <a:ext cx="2448000" cy="6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FF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80000" y="5372280"/>
            <a:ext cx="244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580000" y="5727600"/>
            <a:ext cx="2448000" cy="790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374160" y="9079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F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374160" y="4365720"/>
            <a:ext cx="8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F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740720" y="1628640"/>
            <a:ext cx="671400" cy="3095640"/>
          </a:xfrm>
          <a:custGeom>
            <a:avLst/>
            <a:gdLst/>
            <a:ahLst/>
            <a:rect l="l" t="t" r="r" b="b"/>
            <a:pathLst>
              <a:path w="423" h="1950">
                <a:moveTo>
                  <a:pt x="0" y="0"/>
                </a:moveTo>
                <a:cubicBezTo>
                  <a:pt x="124" y="34"/>
                  <a:pt x="249" y="68"/>
                  <a:pt x="317" y="181"/>
                </a:cubicBezTo>
                <a:cubicBezTo>
                  <a:pt x="385" y="294"/>
                  <a:pt x="393" y="498"/>
                  <a:pt x="408" y="680"/>
                </a:cubicBezTo>
                <a:cubicBezTo>
                  <a:pt x="423" y="862"/>
                  <a:pt x="415" y="1096"/>
                  <a:pt x="408" y="1270"/>
                </a:cubicBezTo>
                <a:cubicBezTo>
                  <a:pt x="401" y="1444"/>
                  <a:pt x="401" y="1611"/>
                  <a:pt x="363" y="1724"/>
                </a:cubicBezTo>
                <a:cubicBezTo>
                  <a:pt x="325" y="1837"/>
                  <a:pt x="234" y="1912"/>
                  <a:pt x="181" y="19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028000" y="2276640"/>
            <a:ext cx="37944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08000" y="1341360"/>
            <a:ext cx="144000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08000" y="2133720"/>
            <a:ext cx="144000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08000" y="2492280"/>
            <a:ext cx="144000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08000" y="2852640"/>
            <a:ext cx="144000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3213000"/>
            <a:ext cx="144000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08000" y="3573360"/>
            <a:ext cx="144000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08000" y="3933720"/>
            <a:ext cx="1440000" cy="358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3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08000" y="4292640"/>
            <a:ext cx="144000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08000" y="4653000"/>
            <a:ext cx="144000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03280" y="19162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71240" y="9079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47640" y="2133720"/>
            <a:ext cx="358920" cy="29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81440" y="15573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скрип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8000" y="5516640"/>
            <a:ext cx="1440000" cy="358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ме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908000" y="5877000"/>
            <a:ext cx="1440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32000" y="537372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32000" y="573408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908000" y="5013360"/>
            <a:ext cx="1440000" cy="50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2205000"/>
            <a:ext cx="216000" cy="3311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86040 h 3311640"/>
              <a:gd name="textAreaBottom" fmla="*/ 3225600 h 33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2360" y="3645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971640" y="1916280"/>
            <a:ext cx="5760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348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48000" y="29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348000" y="2651040"/>
            <a:ext cx="522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2349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851280" y="2852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48000" y="4076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57200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34800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716360" y="3933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16360" y="3933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348000" y="33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356000" y="2565360"/>
            <a:ext cx="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356000" y="2565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3716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62560" y="3213000"/>
            <a:ext cx="0" cy="5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500720" y="321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F3DCC-3C42-4675-9B15-39D018FFFBA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5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8 Последовательный интерфейс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ционная система поддерживает несколь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ов – контроллеров последовательного интерфей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232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адреса хранятся по следующим адреса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40:0000 – 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F8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40:0002 – 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2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F8H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содержит 10 программируемых однобайтовых регистров, используемых для задания параметров и ввода-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буфера приемника и источ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 управления и состояния ли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зрешения и идентификации преры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управления и состояния мод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 делителя частоты тактового генер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сигнал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1» – -3 ..-25 В; «0» – +3..+25 В (параллельный – 5 В и 0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56000" y="9079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05928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59280" y="1268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20364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3640" y="90792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34800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348000" y="1268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92360" y="1268280"/>
            <a:ext cx="14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63528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35280" y="90792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78000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80000" y="1268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92436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924360" y="907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21164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211640" y="1268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35600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356000" y="9079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32360" y="764640"/>
            <a:ext cx="14292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075280" y="765000"/>
            <a:ext cx="144360" cy="28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219640" y="90792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64000" y="90792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651640" y="9079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651640" y="126828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79600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796000" y="907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87280" y="1268280"/>
            <a:ext cx="1800360" cy="360360"/>
          </a:xfrm>
          <a:prstGeom prst="wedgeRoundRectCallout">
            <a:avLst>
              <a:gd name="adj1" fmla="val 56171"/>
              <a:gd name="adj2" fmla="val -78194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ртовый 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rot="16200000">
            <a:off x="3708360" y="836280"/>
            <a:ext cx="142920" cy="1152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258920" y="1700280"/>
            <a:ext cx="1584360" cy="360360"/>
          </a:xfrm>
          <a:prstGeom prst="wedgeRoundRectCallout">
            <a:avLst>
              <a:gd name="adj1" fmla="val 109518"/>
              <a:gd name="adj2" fmla="val -98018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бит да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356000" y="1268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00720" y="12682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450072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788000" y="9075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148360" y="1557360"/>
            <a:ext cx="3600360" cy="576360"/>
          </a:xfrm>
          <a:prstGeom prst="wedgeRoundRectCallout">
            <a:avLst>
              <a:gd name="adj1" fmla="val -62611"/>
              <a:gd name="adj2" fmla="val -109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п-бит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авливаю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ремя до следующей се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227640" y="1052640"/>
            <a:ext cx="1944720" cy="431640"/>
          </a:xfrm>
          <a:prstGeom prst="wedgeRoundRectCallout">
            <a:avLst>
              <a:gd name="adj1" fmla="val -75060"/>
              <a:gd name="adj2" fmla="val -2977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артовый бит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276720" y="1700280"/>
            <a:ext cx="1800000" cy="360360"/>
          </a:xfrm>
          <a:prstGeom prst="wedgeRoundRectCallout">
            <a:avLst>
              <a:gd name="adj1" fmla="val 791"/>
              <a:gd name="adj2" fmla="val -12444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ит 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D8BB-4B5E-453F-9A0E-F1C7A8DDFF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гистры контроллера посл. интерфей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 управления лин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тносительный адрес - 3) доступен для чтения и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ы 0-1 – определяют количество информационных б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 – 5 бит; 01 – 6 бит; 10 – 7 бит; 11 – 8 би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2 – определяет количество стоп-бит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– 1 бит; 1 – 2 би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3 – определяет наличие бита контроля четности (1 - е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4 – определяет режим контроля (0 – четность, 1 – нечет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5 – устанавливает режим фиксации значения бита контроля (0 или 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6 – устанавливает режим «пауза» (1 – пауза, 0 – заверше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7 – определяет доступность некоторых регис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истр состояния лин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относительный адрес - 5) доступен для чт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0 – 1 – данные приня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1 – 1 – ошибка переполнения (данные приняты, а старые не прочитаны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2 – 1 – ошибка че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3 – 1 – ошибка стоповых би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4 – 1 – состояние «пауза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5 – 1 – буфер передатчика свободе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 6 – 1 – сдвиговый регистр передатчика свобо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ы ошибки сбрасываются при чтении состояния ли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F8923-AF04-4213-9F37-9EA2BE0AC07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5" dur="indefinite" restart="never" nodeType="tmRoot">
          <p:childTnLst>
            <p:seq>
              <p:cTn id="2066" dur="indefinite" nodeType="mainSeq">
                <p:childTnLst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гистры контроллера последовательного интерфейс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буфера передатч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носительный адрес - 0) доступен для записи, если бит 7 регистра управления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буфера приемни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носительный адрес - 0) доступен для чтения, если бит 7 регистра управления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младшего байта делителя част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н. адр. - 0) доступен для чтения и записи, если бит 7 регистра управления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старшего байта делителя част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н. адр. - 1) доступен для чтения и записи, если бит 7 регистра управления =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делителя частоты определяет скорость обм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5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   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 – 6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200 б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75 бод;        6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00 бод;   1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8400 бод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15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  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72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7600 б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3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 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h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0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96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;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– 1152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07F3-1198-4FE9-BAF2-036B5864CBC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инициализации последовательного по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76200" y="1557360"/>
            <a:ext cx="8767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ES:[400H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получаем адрес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CO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скорость обмена 1200 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0000000B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установили бит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2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 старший байт дел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 записали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младший байт дел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60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записали 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51A7-A2E3-409B-A5CA-E3EEC08017E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9" dur="indefinite" restart="never" nodeType="tmRoot">
          <p:childTnLst>
            <p:seq>
              <p:cTn id="2170" dur="indefinite" nodeType="mainSeq">
                <p:childTnLst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инициализации последовательного порт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инициализируем регистр управления лин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ES:[400H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0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лина 7 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00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1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стоп-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000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бит 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0000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контроль по 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инициализируем регистр разрешения прер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     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запрещаем прер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ECD33-9933-4876-B6EA-E724CA9B71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3" dur="indefinite" restart="never" nodeType="tmRoot">
          <p:childTnLst>
            <p:seq>
              <p:cTn id="2224" dur="indefinite" nodeType="mainSeq">
                <p:childTnLst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5003640" y="573408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851280" y="981000"/>
            <a:ext cx="0" cy="568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132000" y="692280"/>
            <a:ext cx="1440000" cy="2887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132000" y="1125360"/>
            <a:ext cx="1440000" cy="5032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ылат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132000" y="2276640"/>
            <a:ext cx="1440000" cy="4330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рыв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132000" y="3573360"/>
            <a:ext cx="1440000" cy="57492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фер в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е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356000" y="4221000"/>
            <a:ext cx="1440000" cy="43200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ыл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132000" y="4869000"/>
            <a:ext cx="1440000" cy="4316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батыв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76720" y="5445000"/>
            <a:ext cx="1152360" cy="50328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ff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56000" y="6093000"/>
            <a:ext cx="1440000" cy="4316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ыл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56000" y="1628640"/>
            <a:ext cx="1368360" cy="43200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да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имв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059280" y="2852640"/>
            <a:ext cx="1512720" cy="576360"/>
          </a:xfrm>
          <a:prstGeom prst="flowChartDecision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ф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ода пус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62640" y="13809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994280" y="1386000"/>
            <a:ext cx="936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85092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003640" y="20606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77164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771640" y="1052640"/>
            <a:ext cx="0" cy="56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771640" y="10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27640" y="57117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5033520" y="3838680"/>
            <a:ext cx="180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0" y="3860640"/>
            <a:ext cx="4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385092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0364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80360" y="162864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644360" y="10954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2000" y="357336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501800" y="5445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780360" y="414972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780360" y="595008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3141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859280" y="2637000"/>
            <a:ext cx="1440000" cy="288720"/>
          </a:xfrm>
          <a:prstGeom prst="flowChartTerminator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еры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572000" y="249228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80000" y="24922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73080" y="220500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851640" y="263700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51640" y="335772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772720" y="2852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13640" y="85716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1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O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#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4D7F4-AD3A-46AA-86E7-69D795A7148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передач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9036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ждем, когда все будет готово для 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ES:[400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регистр состояния ли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000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10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проверяем, есть ли ошиб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00000001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 проверяем получ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00100000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проверяем готовность к пере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 передаем сигнал, принимаемый с клави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1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клавиша нажата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5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регистр буфера передатчика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AL;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48A39-3440-4E3D-93BF-EBB0CFFFFD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7" dur="indefinite" restart="never" nodeType="tmRoot">
          <p:childTnLst>
            <p:seq>
              <p:cTn id="2278" dur="indefinite" nodeType="mainSeq">
                <p:childTnLst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а обработчика  преры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Имя&gt;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f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Сохранение содержимого регистров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Обработка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lt;Восстановление содержимого регистров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ire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; возврат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&lt;Имя&gt;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CB3D-E54D-4F0A-9DAD-AF98BCEE24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приема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ждем, когда все будет готово для пере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ES:[400H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00011110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проверка на ошиб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00000001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 проверяем получение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n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00100000B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проверяем готовность к передач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z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 получаем данные и выводим на эк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cve: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ES:[400H]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DX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 читаем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,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H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hort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85DE-5BF1-4890-8C7A-55254D0EC1B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гистры контроллера последовательного интерфейс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 разрешения преры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носительный адрес - 1) доступен для чтения и записи, если бит 7 регистра управления =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0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гнал прерывания – по завершении при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гнал прерывания – при освобождении регистра буфера приемни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гнал прерывания – при ошибке прием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гнал прерывания – при изменении состояния мод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ы 4-7 – н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гистр идентификации прерыван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тносительный адрес - 2) доступен только для чт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0 – 1 – нет заявок на преры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ы 1-2 – причина преры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 – буферный регистр пуст – для сброса надо записать данные в буферный регистр передач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 – изменилось состояние модема – для сброса читать регистр состояния моде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– ошибка при приеме (переполнение буфера, нарушение четности и т. п.) – для сброса надо читать регистр состояния ли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– данные приняты – для сброса надо читать данные в буферном регистр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ы 3-7 – н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4C8DC-5E8E-4E5D-ADDB-B8C1A71FE60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3" dur="indefinite" restart="never" nodeType="tmRoot">
          <p:childTnLst>
            <p:seq>
              <p:cTn id="2434" dur="indefinite" nodeType="mainSeq">
                <p:childTnLst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5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е коммуникационного  прер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разрешаем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COM1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инициировать прерывание 0С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h(IRQ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ES:[400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пишем обработчик аппаратного прерывания, который анализирует причину прерывания и выполняет необходимые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датчик го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осылаем бай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анные приня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поминаем бай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ился статус мод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оверяем и восстанавливаем связ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учен сигнал заверш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кращаем связ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бнаружена ошиб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осстанавливаем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завершением проверяем, есть ли еще необработанные прерыв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 есть, то обрабатываем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C17F7-5648-4D0E-BFE7-4EAE69B8570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1" dur="indefinite" restart="never" nodeType="tmRoot">
          <p:childTnLst>
            <p:seq>
              <p:cTn id="2492" dur="indefinite" nodeType="mainSeq">
                <p:childTnLst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использования коммуникационного прер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50560" y="131256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а работает с мышью, подключенной 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ldVecOf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ldVecSe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,0,0,13,10,'$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ume  CS:Code,DS: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eg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,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,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1800" spc="-1" strike="noStrike">
                <a:solidFill>
                  <a:srgbClr val="666699"/>
                </a:solidFill>
                <a:latin typeface="Courier New"/>
              </a:rPr>
              <a:t>запоминаем старый вектор и устанавливаем н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,350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ldVecSeg,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ldVecOff,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offset Int0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,seg Int0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DF5DD-4269-4203-A894-AA0C77A0383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1" dur="indefinite" restart="never" nodeType="tmRoot">
          <p:childTnLst>
            <p:seq>
              <p:cTn id="2542" dur="indefinite" nodeType="mainSeq">
                <p:childTnLst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коммуникационного прерыв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5075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AX,250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разрешаем все аппаратные прер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1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инициализируем коммуникационный 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X,ES:[400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X,3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pt-BR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регистр управления лин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1111111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сбрасываем 7-й 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2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регистр разрешения прерывани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прерывание по завершении при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A78E-8C87-46EB-BD65-AEE9FC51F4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1" dur="indefinite" restart="never" nodeType="tmRoot">
          <p:childTnLst>
            <p:seq>
              <p:cTn id="2612" dur="indefinite" nodeType="mainSeq">
                <p:childTnLst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коммуникационного прерыва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ожидаем нажатия клави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восстанавливаем вектор прер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OldVec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,OldVecS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AX,250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отменяем прерывания от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CO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завершаем програ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H,4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1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4083-C888-4F6D-B745-4C05BAD272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3" dur="indefinite" restart="never" nodeType="tmRoot">
          <p:childTnLst>
            <p:seq>
              <p:cTn id="2694" dur="indefinite" nodeType="mainSeq">
                <p:childTnLst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1" fill="hold">
                      <p:stCondLst>
                        <p:cond delay="indefinite"/>
                      </p:stCondLst>
                      <p:childTnLst>
                        <p:par>
                          <p:cTn id="2732" fill="hold">
                            <p:stCondLst>
                              <p:cond delay="0"/>
                            </p:stCondLst>
                            <p:childTnLst>
                              <p:par>
                                <p:cTn id="2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ботчик коммуникационного прер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32144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0C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seg 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X,ES:[400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ri_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разрешаем ап. прер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L,2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20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788000" y="1341360"/>
            <a:ext cx="396072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D4809-F694-42EA-BBE3-314875659B8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3" dur="indefinite" restart="never" nodeType="tmRoot">
          <p:childTnLst>
            <p:seq>
              <p:cTn id="2764" dur="indefinite" nodeType="mainSeq">
                <p:childTnLst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3" fill="hold">
                      <p:stCondLst>
                        <p:cond delay="indefinite"/>
                      </p:stCondLst>
                      <p:childTnLst>
                        <p:par>
                          <p:cTn id="2814" fill="hold">
                            <p:stCondLst>
                              <p:cond delay="0"/>
                            </p:stCondLst>
                            <p:childTnLst>
                              <p:par>
                                <p:cTn id="2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 вывода полученного бай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45352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_by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,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:Str+2,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:Str+1,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:Str,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,DS:S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H,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643280" y="907920"/>
            <a:ext cx="4500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Wri_byte 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b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6D02A-D40E-48CA-92B9-FE880764F7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9" dur="indefinite" restart="never" nodeType="tmRoot">
          <p:childTnLst>
            <p:seq>
              <p:cTn id="2850" dur="indefinite" nodeType="mainSeq">
                <p:childTnLst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3" fill="hold">
                      <p:stCondLst>
                        <p:cond delay="indefinite"/>
                      </p:stCondLst>
                      <p:childTnLst>
                        <p:par>
                          <p:cTn id="2864" fill="hold">
                            <p:stCondLst>
                              <p:cond delay="0"/>
                            </p:stCondLst>
                            <p:childTnLst>
                              <p:par>
                                <p:cTn id="2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7" fill="hold">
                      <p:stCondLst>
                        <p:cond delay="indefinite"/>
                      </p:stCondLst>
                      <p:childTnLst>
                        <p:par>
                          <p:cTn id="2868" fill="hold">
                            <p:stCondLst>
                              <p:cond delay="0"/>
                            </p:stCondLst>
                            <p:childTnLst>
                              <p:par>
                                <p:cTn id="2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вление моде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ы от компьютера к мод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R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ует модем, что компьютер включен и готов к связ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S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ует модем, что компьютер ожидает посылки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модема к компьютер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R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ирует компьютер, что модем включен и го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нформирует компьютер, что модем готов начать передачу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нформирует компьютер, что модем связан с другим модем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нформирует компьютер, что линия, к которой подключен модем имеет зво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гналов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R – DSR – RTS – C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правление модемом зависит от типа модема.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E4A86-39C2-4E29-95B2-893EBA86071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7" fill="hold">
                      <p:stCondLst>
                        <p:cond delay="indefinite"/>
                      </p:stCondLst>
                      <p:childTnLst>
                        <p:par>
                          <p:cTn id="2978" fill="hold">
                            <p:stCondLst>
                              <p:cond delay="0"/>
                            </p:stCondLst>
                            <p:childTnLst>
                              <p:par>
                                <p:cTn id="2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вление моде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управления модем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носительный адрес - 4) доступен для чтения и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0 – 1 – сигнал «готовность компьютера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TR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1 – 1 – сигнал «запрос на передачу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T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2 – сигна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ход 1 – работа без преры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3 – сигна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ход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рыван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4 – диагностический режим (выход замкнут на вход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ы 5-7 – н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истр состояния модем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носительный адрес - 6) доступен для чт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0 – 1 – «модем готов к посылке данных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T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1 – 1 – «модем включен и готов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SR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2 – 1 – «индикатор звонка телефона присутствует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I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3 – 1 – «обнаружен другой модем (носитель данных)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CD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ы 4-7 – изменение в соответствен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C, DSR, RI, D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6DD4-9E7B-4C60-BC6E-6C6C1F6549B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5" dur="indefinite" restart="never" nodeType="tmRoot">
          <p:childTnLst>
            <p:seq>
              <p:cTn id="2986" dur="indefinite" nodeType="mainSeq">
                <p:childTnLst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рывания микропроцессора(0Н-6Н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-  прерывание от схем контроля микропроцессора - “Деление на 0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-  прерывание специального режима работы микропроцессора, устанавливаемого, если флажок    TF=1 - “Пошаговое выполнени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- немаскируемое преры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- прерывание микропроцессора, осуществляемого при обнаружении адреса останова  - “Точка останова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- инициируется по команде INTO, используемой после выполнения арифметической операции - “Переполнение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- печать содержимого экрана -  инициируется нажатием клавиш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Scre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6319-817A-49A1-ADF2-62DAC0215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хема организации связи через мод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64216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устанавливаем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D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S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X,ES:[400H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X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L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посылка управляющей строки модему для выз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ожидаем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D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ing: in AL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z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устанавливаем бит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3AC9-D157-4099-BE48-534D54D92BC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9" dur="indefinite" restart="never" nodeType="tmRoot">
          <p:childTnLst>
            <p:seq>
              <p:cTn id="3040" dur="indefinite" nodeType="mainSeq">
                <p:childTnLst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3" fill="hold">
                      <p:stCondLst>
                        <p:cond delay="indefinite"/>
                      </p:stCondLst>
                      <p:childTnLst>
                        <p:par>
                          <p:cTn id="3094" fill="hold">
                            <p:stCondLst>
                              <p:cond delay="0"/>
                            </p:stCondLst>
                            <p:childTnLst>
                              <p:par>
                                <p:cTn id="3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5" fill="hold">
                      <p:stCondLst>
                        <p:cond delay="indefinite"/>
                      </p:stCondLst>
                      <p:childTnLst>
                        <p:par>
                          <p:cTn id="3106" fill="hold">
                            <p:stCondLst>
                              <p:cond delay="0"/>
                            </p:stCondLst>
                            <p:childTnLst>
                              <p:par>
                                <p:cTn id="3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9" fill="hold">
                      <p:stCondLst>
                        <p:cond delay="indefinite"/>
                      </p:stCondLst>
                      <p:childTnLst>
                        <p:par>
                          <p:cTn id="3110" fill="hold">
                            <p:stCondLst>
                              <p:cond delay="0"/>
                            </p:stCondLst>
                            <p:childTnLst>
                              <p:par>
                                <p:cTn id="3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хема организации связи через моде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ожидаем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C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1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z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алее идет пересылк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E8F62-FE3B-4D37-95B6-AE43D366DF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3" dur="indefinite" restart="never" nodeType="tmRoot">
          <p:childTnLst>
            <p:seq>
              <p:cTn id="3114" dur="indefinite" nodeType="mainSeq">
                <p:childTnLst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3B59-6414-4858-B458-497B1BB20E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икроконтроллер преры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1989000"/>
            <a:ext cx="1873440" cy="237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ры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5640" y="249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249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278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307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3646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5640" y="220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5640" y="42228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39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240" y="1917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7240" y="2205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6880" y="24940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6880" y="278136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6880" y="30700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6880" y="33577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6880" y="364644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6880" y="39337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788000" y="1989000"/>
            <a:ext cx="1873080" cy="237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ол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ры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249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2494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95800" y="2781360"/>
            <a:ext cx="149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307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3646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140360" y="220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3357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40360" y="42228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3933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71600" y="1917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71600" y="2205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8720" y="2781360"/>
            <a:ext cx="65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071600" y="30700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71600" y="3357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071600" y="36464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71600" y="3933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4560" y="2205000"/>
            <a:ext cx="1152720" cy="865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59640" y="24940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659640" y="285444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6920" y="2205000"/>
            <a:ext cx="51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256536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0200" y="451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ый вект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70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ы А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, A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4920" y="451008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зовый вект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, 21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F1F0-C109-487F-9936-8E0C1EB90B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андартное подключение устрой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Q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Вектор           Устройство                                  Бит регистра ма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Таймер                                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Клавиатура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Вход от схемы 2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O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часы                                             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7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Мышь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13           75h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вой сопроцессор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Контроллер винчестера (1 канал)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Контроллер винчестера (2 канал)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Последовательный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Последовательный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Параллельный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2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Контроллер гибких дисков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Q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пор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T1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3DEAE-C094-4F97-B80B-7C812A2BE7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правление аппаратными прерывания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989000"/>
            <a:ext cx="576360" cy="215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6360" y="1989000"/>
            <a:ext cx="576000" cy="215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89000"/>
            <a:ext cx="576000" cy="215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1989000"/>
            <a:ext cx="576360" cy="2159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24360" y="1052640"/>
            <a:ext cx="2664000" cy="720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234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234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292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3502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40784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78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1240" y="17733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1240" y="206064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1240" y="23493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1240" y="2637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240" y="292572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240" y="3213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240" y="350208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240" y="378936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Q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20720" y="2421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21080" y="2421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2944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29440" y="184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32720" y="184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08720" y="1484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08720" y="148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1339920"/>
            <a:ext cx="36036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97080" y="11239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4149720"/>
            <a:ext cx="16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3080" y="4149720"/>
            <a:ext cx="16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13080" y="4149720"/>
            <a:ext cx="19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а анализа приорит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3440" y="414972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 обслуж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рос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 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5157720"/>
            <a:ext cx="36828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т прерываний тай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    AL,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    AL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  21h,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43280" y="5157720"/>
            <a:ext cx="4253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ешение прерываний тай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    AL,2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 AL,0F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  21h,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6EA0-ABAD-4BBF-B1A0-9BFE00D471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система прерываний защищенного режим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щищенном режиме вместо таблицы векторов используется таблица дескрипторов прерыван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этой таблицы хранится в регистр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T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помощью этой таблицы определяются обработчики не только прерываний, но и исклю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скриптор прерывания – структура длиной 8 байтов. Он принадлежит к одному из трех т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мутатор преры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мутатор перехва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ммутатор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таторы прерывания и перехвата вызывают переход на соответствующие сегменты кода, выполняемые в адресном пространстве текущей задачи, и содержат поле селектора (2 байта) и поле смещения (4 байта) сегмента, содержащего обработчики преры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утатор задачи вызывает полное переключение процессора на новую за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747C-AEC6-44DA-B580-0F16067590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0:51:14Z</dcterms:created>
  <dc:creator>Ivanova</dc:creator>
  <dc:description/>
  <dc:language>en-US</dc:language>
  <cp:lastModifiedBy>Галина Сергеевна Иванова</cp:lastModifiedBy>
  <dcterms:modified xsi:type="dcterms:W3CDTF">2009-01-22T14:04:28Z</dcterms:modified>
  <cp:revision>10</cp:revision>
  <dc:subject/>
  <dc:title>Глава 7   Управление устройствами</dc:title>
</cp:coreProperties>
</file>