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D854A-CB91-4337-8EE6-5D07A4B9C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2C8BF-52FC-4775-A024-5B5D6951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A3427-F7C0-4FA1-A731-A3B36EDE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76C18-535E-4B35-9379-6B9898FD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CAA0-3829-424F-891B-CD24EA3A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D7A5-1E50-4182-B984-36D6E2450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87F0-E328-48D4-BE39-17A751A3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2DE7-F9C5-486D-A740-C1DA6232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F542-5540-48B9-8A6B-B3DE216E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D58B-6C0E-4B10-98ED-315D702C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416F-489B-46E9-8AE2-4AE9C1EC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C136E-7019-4E66-B805-AF4CF34D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E001-E9EE-4704-AB7B-7838D3D1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08D7-F3F6-4371-ABA5-F6276E96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7E5D-BC97-4F28-996D-40C04B82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F3E9-A243-4AEE-8F10-02F5BB6F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E201-FCEF-4D3C-94DC-6FA3F54C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41304-4B8B-4969-A3D0-260E31EB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2147-DCB3-4874-B109-178E9F7C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45B40-F34F-46E5-9CA5-EA3EEBD3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F4776-CB57-4439-8415-93348004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FA157-DD50-4332-855D-BC6B9FB6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732C2-8D91-4599-80EB-E3BBF821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D917D-CB80-46E2-B078-A68BA298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7EBF-F049-4B4C-A4E9-1DD68DCCD2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0987-E29B-48C9-BFAD-3CE099CAE6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2640" y="177336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ва 5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сновы конструирования компилято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ектор: д.т.н., доцен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68360" y="476280"/>
            <a:ext cx="547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ное программ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9F24-503C-447F-922D-E790548404D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ормальная граммат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алфавит языка или множество терминальных (незаменяемых) симво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ножество нетерминальных (заменяемых) символов – вспомогательный алфавит, символы которого обозначают допустимые понятия язы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=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ловарь грамма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множество порождающих правил – каждое правило состоит из пары строк (α, β), где α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– левая часть правила, β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– правая часть правила: α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β, где строка α должна содержать хотя бы один нетермин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чальный символ – аксиома грам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F3A5-FD19-4031-9B15-C5BF5951B0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мматика записи десятичных чисел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4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0, 1, 2, 3, 4, 5, 6, 7, 8, 9, +, -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&lt;целое&gt;, &lt;целое без знака&gt;, &lt;цифра&gt;, &lt;знак&gt;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&lt;целое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&lt;целое без знака&gt;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елое без знака&gt;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ифра&gt;&lt;целое без знака&gt;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ифра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3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4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5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6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7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8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&lt;целое&gt;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32720" y="2708280"/>
            <a:ext cx="2163600" cy="792000"/>
          </a:xfrm>
          <a:prstGeom prst="wedgeRoundRectCallout">
            <a:avLst>
              <a:gd name="adj1" fmla="val -51759"/>
              <a:gd name="adj2" fmla="val -9208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осторонняя рекур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8020C-E304-4A74-A956-A2FE5B0AA1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орма Бэкуса-Нау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БНФ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ные обо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терминальный символ – конструк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– терминальный символ – символ алфави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ожно заменить н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::= &lt;знак&gt;&lt;целое без знака&gt;|&lt;целое без знака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::= &lt;цифра&gt;&lt;целое без знака&gt;|&lt;цифра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 &gt; ::= 0|1|2|3|4|5|6|7|8|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::= +|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55954-E294-4D00-92AC-52F9B53D72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2.2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Грамматический разбо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вод представляет собой последовательность подстано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ывод строки «-45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целое&g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знак&gt;&lt;целое без знака&g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lt;знак&gt;&lt;цифра&gt;&lt;целое без знака&gt;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lt;знак&gt;&lt;цифра&gt;&lt;цифра&g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- &lt;цифра&gt;&lt;цифра&g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4&lt;цифра&gt;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2708280"/>
            <a:ext cx="79200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3573360"/>
            <a:ext cx="79200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20000" y="3573360"/>
            <a:ext cx="79200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4437000"/>
            <a:ext cx="79200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85080" y="443700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20000" y="5300640"/>
            <a:ext cx="79200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940360" y="3284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6804000" y="414972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7667640" y="50133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75640" y="3284640"/>
            <a:ext cx="288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740720" y="4149720"/>
            <a:ext cx="28872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5076720" y="414972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940360" y="50133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804000" y="58770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60720" y="44370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3440" y="530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8520" y="61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0920" y="4437000"/>
            <a:ext cx="201636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м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5640" y="5516640"/>
            <a:ext cx="2016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ходя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5516640"/>
            <a:ext cx="2016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сходя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763640" y="5084640"/>
            <a:ext cx="719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06920" y="5084640"/>
            <a:ext cx="649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A922A-4DE0-4EB6-A301-7822F712B31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Левосторонний восходящий грамматический разб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577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азобрать строку «-4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грамма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елое&gt; ::= &lt;знак&gt;&lt;целое без знака&gt;|&lt;целое без знака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елое без знака&gt; ::= &lt;целое без знака&gt;&lt;цифра&gt;|&lt;цифра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ифра &gt; ::= 0|1|2|3|4|5|6|7|8|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знак&gt; ::= +| -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ь получения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ентенциа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рм данным метод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цифра&g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цбз&gt;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&lt;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цбз&gt;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цбз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елое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35280" y="4365720"/>
            <a:ext cx="1440000" cy="360360"/>
          </a:xfrm>
          <a:prstGeom prst="wedgeRoundRectCallout">
            <a:avLst>
              <a:gd name="adj1" fmla="val -154851"/>
              <a:gd name="adj2" fmla="val 110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67280" y="4869000"/>
            <a:ext cx="1439640" cy="360360"/>
          </a:xfrm>
          <a:prstGeom prst="wedgeRoundRectCallout">
            <a:avLst>
              <a:gd name="adj1" fmla="val -153638"/>
              <a:gd name="adj2" fmla="val -33699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95640" y="5373720"/>
            <a:ext cx="1440000" cy="360360"/>
          </a:xfrm>
          <a:prstGeom prst="wedgeRoundRectCallout">
            <a:avLst>
              <a:gd name="adj1" fmla="val -153638"/>
              <a:gd name="adj2" fmla="val 5949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0" y="5877000"/>
            <a:ext cx="1440000" cy="360360"/>
          </a:xfrm>
          <a:prstGeom prst="wedgeRoundRectCallout">
            <a:avLst>
              <a:gd name="adj1" fmla="val -133791"/>
              <a:gd name="adj2" fmla="val -33699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93080" y="1268280"/>
            <a:ext cx="1942920" cy="648000"/>
          </a:xfrm>
          <a:prstGeom prst="wedgeRoundRectCallout">
            <a:avLst>
              <a:gd name="adj1" fmla="val -40277"/>
              <a:gd name="adj2" fmla="val 8897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восторонняя рекур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53395-6463-4871-BA98-2F8FF4F87A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6160" y="209160"/>
            <a:ext cx="863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Левосторонний нисходящий грамматический разб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Разобрать строку «-45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авила грамма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целое&gt; ::= &lt;знак&gt;&lt;целое без знака&gt;|&lt;целое без знака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целое без знака&gt; ::= &lt;цифра&gt;&lt;целое без знака&gt;|&lt;цифра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цифра &gt; ::= 0|1|2|3|4|5|6|7|8|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&lt;знак&gt; ::= +| -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C2598-1733-4129-A40D-7923C287A8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872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восторонний нисходящий грамматический разбор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70000" y="969840"/>
          <a:ext cx="8047080" cy="5694480"/>
        </p:xfrm>
        <a:graphic>
          <a:graphicData uri="http://schemas.openxmlformats.org/drawingml/2006/table">
            <a:tbl>
              <a:tblPr/>
              <a:tblGrid>
                <a:gridCol w="542880"/>
                <a:gridCol w="1311120"/>
                <a:gridCol w="1800360"/>
                <a:gridCol w="2087640"/>
                <a:gridCol w="1224000"/>
                <a:gridCol w="1081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озна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ий симв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ли под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ин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ое без зн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1-В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ое без зн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1-В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ое без зн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1-В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ое без зн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1-В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ое без зн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1-В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7596360" y="128736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96360" y="227664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96360" y="4292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96360" y="328464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96360" y="5661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144280" y="5805360"/>
            <a:ext cx="457920" cy="71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535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53553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43200" y="3500280"/>
            <a:ext cx="460800" cy="93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535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53553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143200" y="4437000"/>
            <a:ext cx="460800" cy="100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535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53553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171280" y="2492280"/>
            <a:ext cx="751680" cy="324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081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08183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143200" y="1484280"/>
            <a:ext cx="460800" cy="93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16535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1653553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791F8-2602-417B-8465-7C298E35EF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2.3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лассификация грамматик Хомског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ки фразовой структуры или грамматики «без ограничений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– в таких грамматиках допустимо наличие любых правил вывода, что свойственно грамматикам естественных яз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текстно-зависимые (неукорачивающие)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, | α |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| β | – в этих грамматиках для правил вида α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α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возможность подстановки строк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место символ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ся присутствием подстрок α и β, т. е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тек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что также свойственно грамматикам естественных яз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текстно-свободные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β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– поскольку в левой части правила стоит нетерминал, подстановки не зависят от контек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регулярные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4ECD8-7AF8-404D-8385-8E25A9F09E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2.4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познавание регулярных грамматик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2.4.1 Конечный авто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δ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ечное множество состоя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чное множество входных симво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δ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– функция переходов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текущее состояние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чередной симво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чальное состоя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 – подмножество допускающих состоя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втомат «Чет-нечет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Чет, Нечет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0, 1}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δ(Чет, 0) = Чет, δ(Нечет, 0) = Неч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δ(Чет, 1) = Нечет, δ(Нечет, 1) = Ч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Ч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Чет}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724360" y="3860640"/>
          <a:ext cx="2880000" cy="1152720"/>
        </p:xfrm>
        <a:graphic>
          <a:graphicData uri="http://schemas.openxmlformats.org/drawingml/2006/table">
            <a:tbl>
              <a:tblPr/>
              <a:tblGrid>
                <a:gridCol w="1029600"/>
                <a:gridCol w="951480"/>
                <a:gridCol w="89892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"/>
          <p:cNvSpPr/>
          <p:nvPr/>
        </p:nvSpPr>
        <p:spPr>
          <a:xfrm>
            <a:off x="6013080" y="342900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блица пер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65280" y="5919840"/>
            <a:ext cx="72072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33640" y="5919840"/>
            <a:ext cx="72072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039120" y="6279840"/>
            <a:ext cx="86724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" y="9637"/>
                </a:moveTo>
                <a:arcTo wR="10800" hR="10800" stAng="-10428952" swAng="10428952"/>
                <a:lnTo>
                  <a:pt x="10800" y="10800"/>
                </a:lnTo>
                <a:close/>
              </a:path>
              <a:path fill="none" w="21600" h="21600">
                <a:moveTo>
                  <a:pt x="63" y="9637"/>
                </a:moveTo>
                <a:arcTo wR="10800" hR="10800" stAng="-10428952" swAng="10428952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39120" y="5775480"/>
            <a:ext cx="86724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3" y="9637"/>
                </a:moveTo>
                <a:arcTo wR="10800" hR="10800" stAng="-10428952" swAng="10428952"/>
                <a:lnTo>
                  <a:pt x="10800" y="10800"/>
                </a:lnTo>
                <a:close/>
              </a:path>
              <a:path fill="none" w="21600" h="21600">
                <a:moveTo>
                  <a:pt x="63" y="9637"/>
                </a:moveTo>
                <a:arcTo wR="10800" hR="10800" stAng="-10428952" swAng="10428952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332520" y="628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32520" y="577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167720" y="5991120"/>
            <a:ext cx="862560" cy="57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27" y="540"/>
                </a:moveTo>
                <a:arcTo wR="10800" hR="10800" stAng="-6492005" swAng="13451326"/>
                <a:lnTo>
                  <a:pt x="10800" y="10800"/>
                </a:lnTo>
                <a:close/>
              </a:path>
              <a:path fill="none" w="21600" h="21600">
                <a:moveTo>
                  <a:pt x="7427" y="540"/>
                </a:moveTo>
                <a:arcTo wR="10800" hR="10800" stAng="-6492005" swAng="13451326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627800" y="606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1890720" y="5991120"/>
            <a:ext cx="900000" cy="57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427" y="540"/>
                </a:moveTo>
                <a:arcTo wR="10800" hR="10800" stAng="-6492005" swAng="13451326"/>
                <a:lnTo>
                  <a:pt x="10800" y="10800"/>
                </a:lnTo>
                <a:close/>
              </a:path>
              <a:path fill="none" w="21600" h="21600">
                <a:moveTo>
                  <a:pt x="7427" y="540"/>
                </a:moveTo>
                <a:arcTo wR="10800" hR="10800" stAng="-6492005" swAng="13451326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1963440" y="606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30880" y="57340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ф пер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551664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48360" y="594828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172360" y="594828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24720" y="623736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588000" y="6669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308360" y="609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8459280" y="623700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732720" y="6261120"/>
            <a:ext cx="2635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451640" y="5820840"/>
            <a:ext cx="162000" cy="2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788240" y="5848200"/>
            <a:ext cx="16848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380000" y="6453360"/>
            <a:ext cx="14436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7883280" y="6453000"/>
            <a:ext cx="14436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18040" y="515772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нтаксическая диа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80000" y="4292640"/>
            <a:ext cx="3095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72080" y="4653000"/>
            <a:ext cx="309564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3540B-EA88-48F4-A657-1DA47B9EC9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граммная реализация конечного автом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25600" y="2884320"/>
            <a:ext cx="8229600" cy="37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Ошибка» 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Кон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«Кон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 «Строка приня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аче «Строка отвергну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-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87280" y="981000"/>
          <a:ext cx="6769440" cy="1672920"/>
        </p:xfrm>
        <a:graphic>
          <a:graphicData uri="http://schemas.openxmlformats.org/drawingml/2006/table">
            <a:tbl>
              <a:tblPr/>
              <a:tblGrid>
                <a:gridCol w="1354320"/>
                <a:gridCol w="1353960"/>
                <a:gridCol w="1352880"/>
                <a:gridCol w="1353960"/>
                <a:gridCol w="13543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ер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D29A0-303C-4B72-BD5C-E4A3720357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едение. Метод Рутисхауз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. Записать в полной скобочной фор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опоставить индек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Цикл-пока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’_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Если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ли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= &l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операнд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то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-1]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иначе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предели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ндекс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строить трой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далить обработанные символы из выражения, результату сопоставить индекс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AD45E-6B59-41A6-B1BF-83AB912707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2.4.2 Лексические анализатор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915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аспознаватель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416720" cy="12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"/>
          <p:cNvGraphicFramePr/>
          <p:nvPr/>
        </p:nvGraphicFramePr>
        <p:xfrm>
          <a:off x="250920" y="3716280"/>
          <a:ext cx="4897440" cy="2260800"/>
        </p:xfrm>
        <a:graphic>
          <a:graphicData uri="http://schemas.openxmlformats.org/drawingml/2006/table">
            <a:tbl>
              <a:tblPr/>
              <a:tblGrid>
                <a:gridCol w="936360"/>
                <a:gridCol w="924120"/>
                <a:gridCol w="909720"/>
                <a:gridCol w="1149120"/>
                <a:gridCol w="97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-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-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-л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А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5219640" y="2852640"/>
            <a:ext cx="39243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ициализация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_числа := «+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1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Знак_числа :=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2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Целое*10 + 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3: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с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нак_числа = «-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-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се-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1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Строка не является  числом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2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Два знака рядом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3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В строке отсутствуют цифры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4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 строке встречаются недопустимые символ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4365720"/>
            <a:ext cx="500400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941720"/>
            <a:ext cx="5219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9280" y="5445000"/>
            <a:ext cx="5004000" cy="57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D6903-A66E-40D4-9302-A87B2CE4BE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аспознаватель цел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4358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= «+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= «-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«0»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«9»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j 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]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48360" y="1052640"/>
            <a:ext cx="399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 Выполн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ести «Это число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аче Вывести сообщ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-ес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E3699-6B02-42AB-9A04-DFFC376B3C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2.4.3 Синтаксические анализато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13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аксический анализатор списка описания целых скаляров, массивов и функций, например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a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22[5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r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2][4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), 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V,V[N],V[N][N],V[N],V(),*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5184720" cy="1944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50920" y="4076640"/>
            <a:ext cx="525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*  (  )  [  ]  ,  ;  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1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2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2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4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4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5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5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7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7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8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8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80000" y="2133720"/>
            <a:ext cx="356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озна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идентификатор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целочисленная констан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жебные символы: «[ ] ( ) , ; *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77840" y="4363920"/>
            <a:ext cx="4984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09480" y="422064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DD07B-2A53-41A1-A8D6-C61FC0E496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лгоритм анализ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Е» и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, «VN*()[];»)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  Вывести сообщение «Да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аче Вывести сообщение «Нет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B7CF0-F090-4B20-87BD-0F3D245CF0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2.5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аспознавание КС-грамматик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2.5.1 Автомат с магазинной память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конечное множество состояний автома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ечный входной алфави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 – конечное множество магазинных символ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функция переход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 начальное состояние автома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 – символ, находящийся в магазине в начальный момен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ножество заключительных (допускающих) состоя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нтаксический анализатор выра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{&lt;Ид&gt;, +, –, *,  /, (, ), ◄, ►}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513C2-229B-4E3F-8418-8FAD00AC1D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нтаксические диаграммы 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1341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* (B + C) + (D + F) / (A + B) - C *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403280" y="2205000"/>
          <a:ext cx="6261120" cy="37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205000"/>
                    <a:ext cx="626112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3C0D6-7024-435A-902B-46B651E004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ъединенная синтаксическая ди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69080" cy="29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2FEB1-4D56-4D4E-A3A9-5EE1B523EE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аблица переходов автом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-1405080" y="1052640"/>
          <a:ext cx="11809440" cy="58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05080" y="1052640"/>
                    <a:ext cx="118094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5A870-7D3A-4BA5-ACC4-91FB411AE1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лгоритм распозна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58720" y="69840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Ес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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«Строка приня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«Строка отвергну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4BD8-9BE0-4A93-942A-837AFAD2B5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2.5.2 Синтаксические анализатор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L(k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.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восторонний нисходящий грамматический раз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95280" y="1052640"/>
          <a:ext cx="8047080" cy="5694120"/>
        </p:xfrm>
        <a:graphic>
          <a:graphicData uri="http://schemas.openxmlformats.org/drawingml/2006/table">
            <a:tbl>
              <a:tblPr/>
              <a:tblGrid>
                <a:gridCol w="542880"/>
                <a:gridCol w="1311480"/>
                <a:gridCol w="1800000"/>
                <a:gridCol w="2087640"/>
                <a:gridCol w="1224000"/>
                <a:gridCol w="1081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озна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ий симв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или под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ин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ое без зн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1-В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ое без зн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1-В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ое без зн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1-В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ое без зн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1-В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ое без зн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1-В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7596360" y="1413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667640" y="234936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96360" y="43657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96360" y="34290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96360" y="573408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92360" y="5445000"/>
            <a:ext cx="2376720" cy="1297080"/>
          </a:xfrm>
          <a:prstGeom prst="wedgeRoundRectCallout">
            <a:avLst>
              <a:gd name="adj1" fmla="val 80060"/>
              <a:gd name="adj2" fmla="val -1536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обходимость возврата связана с неверным выбором пра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92360" y="5445000"/>
            <a:ext cx="2376720" cy="1297080"/>
          </a:xfrm>
          <a:prstGeom prst="wedgeRoundRectCallout">
            <a:avLst>
              <a:gd name="adj1" fmla="val 74782"/>
              <a:gd name="adj2" fmla="val -188435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обходимость возврата связана с неверным выбором прав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F7EFD-0FA7-4C23-AF9E-A3159158D3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1" dur="indefinite" restart="never" nodeType="tmRoot">
          <p:childTnLst>
            <p:seq>
              <p:cTn id="1362" dur="indefinite" nodeType="mainSeq">
                <p:childTnLst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использования метода Рутисхаузера для разбора 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2760" y="144756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:      (  (  ( a +  b ) * c  )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 3 4 3 4 3 2 3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(  ( T1 * c  )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 3  2 3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( T2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T3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 0 1  0  1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0920" y="3543480"/>
            <a:ext cx="1295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2449440"/>
            <a:ext cx="1295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4653000"/>
            <a:ext cx="1295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63640" y="5740560"/>
            <a:ext cx="936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72360" y="2421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1 = a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2360" y="3429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2 = T1*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2360" y="4437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72360" y="551664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4 = T3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6EC7-E9CD-4204-AF36-DE5CD9AB78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таксические анализатор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L(k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2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915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а грамматика записи выраж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&lt;Строка&gt; ::= &lt;Выр&gt;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&lt;Выр&gt; ::= &lt;Терм&gt; &lt;Слож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&lt;Слож&gt; ::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| + &lt;Терм&gt; &lt;Слож&gt; |  - &lt;Терм&gt;&lt;Слож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&lt;Терм&gt; ::= &lt;Множ&gt;&lt;Умн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&lt;Умн&gt; ::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| *&lt;Множ&gt;&lt;Умн&gt; | / &lt;Множ&gt;&lt;Умн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) &lt;Множ&gt; ::= &lt;Ид&gt; | (&lt;Выр&gt;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-828720" y="3141720"/>
          <a:ext cx="1072836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28720" y="3141720"/>
                    <a:ext cx="1072836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D6B07-E600-44E1-A063-9BD84EDB06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од рекурсивного с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539640" y="1773360"/>
          <a:ext cx="7561440" cy="45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756144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E3122-92DB-4EAA-9DB4-03A78B19F9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лгоритм распозна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 Выра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Терм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=tru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xtSymbol =’+’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-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Терм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е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 Тер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=tru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xtSymbol =’*’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/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Множ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57666-D03C-4256-A2D8-2A05F257EF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9" dur="indefinite" restart="never" nodeType="tmRoot">
          <p:childTnLst>
            <p:seq>
              <p:cTn id="1430" dur="indefinite" nodeType="mainSeq">
                <p:childTnLst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лгоритм распознавателя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Bool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(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Выражение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Symbol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‘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Ошибка 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ач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: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ая програм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Выражение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Symbol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‘◄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Ошибка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26F6-6F27-4FFA-98DE-291E81F811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2.5.3 Синтаксические анализатор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(k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и предшеств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получения сентенциальных форм методом «слева-направо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знак&gt;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знак&gt; &lt;цифра&gt;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знак&gt; &lt;цбз&gt;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цел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 5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знак&gt;&lt;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цел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знак&gt; &lt;цбз&gt;&lt;цифра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цел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знак&gt; &lt;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цел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знак&gt; &lt;цбз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целое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40360" y="3573360"/>
            <a:ext cx="1439640" cy="360360"/>
          </a:xfrm>
          <a:prstGeom prst="wedgeRoundRectCallout">
            <a:avLst>
              <a:gd name="adj1" fmla="val -183847"/>
              <a:gd name="adj2" fmla="val -15199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38560" y="4219560"/>
            <a:ext cx="1440000" cy="360360"/>
          </a:xfrm>
          <a:prstGeom prst="wedgeRoundRectCallout">
            <a:avLst>
              <a:gd name="adj1" fmla="val -162791"/>
              <a:gd name="adj2" fmla="val -98018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67280" y="4869000"/>
            <a:ext cx="1439640" cy="360360"/>
          </a:xfrm>
          <a:prstGeom prst="wedgeRoundRectCallout">
            <a:avLst>
              <a:gd name="adj1" fmla="val -162680"/>
              <a:gd name="adj2" fmla="val -6233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140360" y="5516640"/>
            <a:ext cx="1439640" cy="360360"/>
          </a:xfrm>
          <a:prstGeom prst="wedgeRoundRectCallout">
            <a:avLst>
              <a:gd name="adj1" fmla="val -107884"/>
              <a:gd name="adj2" fmla="val -14559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12000" y="3645000"/>
            <a:ext cx="2808000" cy="2376360"/>
          </a:xfrm>
          <a:prstGeom prst="wedgeRoundRectCallout">
            <a:avLst>
              <a:gd name="adj1" fmla="val -59328"/>
              <a:gd name="adj2" fmla="val -4926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пики возникают вследствие неверного выбора основы, гд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сн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последовательность символов, сворачиваемая на следующем ша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4E95C-E027-44A8-99D9-35DD2A95D8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74872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амматики предшеств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87200" y="980640"/>
            <a:ext cx="8956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..αβ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два символа α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положены рядом в сентенциальной форме, то между ними возможны следующие отношения, названные отношениями предшествов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принадлежит основе, а β – нет, т. е. α – конец основы: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 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принадлежит основе, а α – нет, т. е. β – начало основы: α &lt;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и β принадлежит одной основе, т. е. α =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и β не могут находиться рядом в сентенциальной форме (ошиб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матикой предшеств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грамматика, в которой из последовательности символов однозначно следует определение осно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матикой операторного предшеств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ся грамматика, в которой существует однозначное отношение предшествования терминальных символов, которое не зависит от нетерминальных символов, находящихся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A8151-2DBB-42B5-A23E-A02A58111AA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роение таблицы предш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4000" y="4365360"/>
            <a:ext cx="45352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+    ► A*    ►(A    ► A)    ►A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A+     +A*       +(A      +A)      +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A+      *A*        *(A       *A )     *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+       (A*       ((A        (A)       (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+        A)*      A)(         A))      A)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4500720" y="3284640"/>
          <a:ext cx="13033080" cy="299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284640"/>
                    <a:ext cx="130330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611280" y="292428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о осно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ц осно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- одна осн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ши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4000" y="90792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рамматика арифметических выраж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левосторонней рекурси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Выражение&gt;  ::= &lt;Терм&gt;|&lt;Выражение&gt;+&lt;Терм&gt;|&lt;Выражение&gt;- &lt;Терм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Терм&gt;  ::= &lt;Множитель&gt; | &lt;Терм&gt;* &lt;Множитель&gt; | &lt;Терм&gt; / &lt;Множитель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Множитель&gt; ::= (&lt;Выражение&gt;) | &lt;Идентификатор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13C26-CDE8-466B-A523-72B21340318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мер разбора выражения стековым мет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0028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1341360"/>
          <a:ext cx="9144000" cy="551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14400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216D0-6B2A-4BEB-87D6-4A8E99BCEC1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2.6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ьская запись. Алгоритм Бауэра-Замельзо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Польская запис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ставляет собой последовательность команд двух тип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дентификатор операнда – выбрать число по имен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заслать его в стек операн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я – выбрать два верхних числа из стека операндов, произвести над ними операцию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занести результат в стек операн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B*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0D02B-8FD7-4555-87D1-B89919A32B7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7" dur="indefinite" restart="never" nodeType="tmRoot">
          <p:childTnLst>
            <p:seq>
              <p:cTn id="1648" dur="indefinite" nodeType="mainSeq">
                <p:childTnLst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17136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Бауэра-Замельз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87440" y="7412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польской запис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если символ – операнд, то вырабатывается команда 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если символ – операция, то выполняются действия согласно таблиц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слать 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тек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генерирова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слать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тек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далить верхний символ из стека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генерирова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овторить с тем же входным симво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232160" y="1844640"/>
            <a:ext cx="9936360" cy="26956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11665080" cy="23036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2249640" y="178920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3080" y="314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94378-2D14-42AE-9447-DA4E4826D33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9" dur="indefinite" restart="never" nodeType="tmRoot">
          <p:childTnLst>
            <p:seq>
              <p:cTn id="1670" dur="indefinite" nodeType="mainSeq">
                <p:childTnLst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1 Основные понятия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1.1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лассификация компилирующих програм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2915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ансля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грамма, которая переводит програм-му, написанную на одном языке, в эквивалентную ей программу, написанную на другом язы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иля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нслятор с языка высокого уровня на машинный язык или язык ассемб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нслятор с языка Ассемблера на ма-шинны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грамма, которая принимает ис-ходную программу и выполняет ее, не создавая про-граммы на другом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крогенер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ля компиляторов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процесс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программа, которая обрабатывает исходную про-грамму, как текст, и выполняет в нем замены ука-занных символов на подстроки. Макрогенератор обрабатывает программу до трансля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D986C-1274-40DD-AD15-82F1DD1B69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ить тройки дл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польской запис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-1116000" y="1700280"/>
            <a:ext cx="8748720" cy="46321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878480" y="6165720"/>
            <a:ext cx="49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*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EE650-93C8-4C9B-A993-E598519C0EB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7" dur="indefinite" restart="never" nodeType="tmRoot">
          <p:childTnLst>
            <p:seq>
              <p:cTn id="1718" dur="indefinite" nodeType="mainSeq">
                <p:childTnLst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ение операций польской запис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B7C3D-FECF-46C6-A58D-F4AA0472C20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3 Распределение памяти под переменны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атическ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ется в процессе компиляции или загрузки в память (для сегмента неинициированных данных), используется для хранения глобальных перемен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томатическ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ыполняется при вызове подпрограмм, используется для локальных переменных, размещаемых в сте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правляем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ыполняется по запросу программист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, dele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используется для динамических переменных, размещаемых в динамической памя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базирован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также выполняется по запросу программиста, но большими фрагментам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mem, freeme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за размещение переменных отвечает программист.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0EFC4-1281-4EB3-86A1-F8A74B31EB3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4 Генерация и оптимизация код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«заготовки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    AX, &lt;Op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   AX, &lt;Op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шинно-независим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мизация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исключение повторных вычислений одних и тех же операн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ыполнение операций над константами во время трансля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вынесение из циклов вычисления величин, не зависящих от параметров цик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упрощение сложных логических выражений и т. 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ашинно-зависим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мизация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исключение лишних передач данных типа «память-регистр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ыб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эффективных команд т.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3F01-CD03-4110-A605-F6D629DA913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395640"/>
            <a:ext cx="874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444AD-5A18-4235-99CA-5570F75E126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1.2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труктура компилирующей программ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нтакси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совокупность правил, определяющих допустимые конструкции языка, т. е. его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фор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ман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совокупность правил, определяющих логическое соответствие между элементами и значением синтаксически корректных предложений, т. е.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зы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40DC6-358B-4ECD-98BD-E67571F9F9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а процесса компиляци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1052640"/>
            <a:ext cx="575928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220500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нтаксический анал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3357720"/>
            <a:ext cx="575928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мантический анали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458136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спределение памя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580536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енерация и оптимизация объектного к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7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93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515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D15B4-1325-4106-8331-66875CE4C8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Su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5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p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19640" y="981000"/>
            <a:ext cx="21589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с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700280"/>
            <a:ext cx="3600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минальн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1700280"/>
            <a:ext cx="388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азо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340000" y="1413000"/>
            <a:ext cx="172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4859280" y="1413000"/>
            <a:ext cx="1873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2924280"/>
          <a:ext cx="8351640" cy="3744720"/>
        </p:xfrm>
        <a:graphic>
          <a:graphicData uri="http://schemas.openxmlformats.org/drawingml/2006/table">
            <a:tbl>
              <a:tblPr/>
              <a:tblGrid>
                <a:gridCol w="1366920"/>
                <a:gridCol w="2305080"/>
                <a:gridCol w="1368360"/>
                <a:gridCol w="33112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с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ы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ое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нтифик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иденти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литер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ое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нтифик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иденти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литер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F9EE1-E3DF-440A-8140-9DB24951DCA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нтаксический анали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413000"/>
          <a:ext cx="4043520" cy="5040360"/>
        </p:xfrm>
        <a:graphic>
          <a:graphicData uri="http://schemas.openxmlformats.org/drawingml/2006/table">
            <a:tbl>
              <a:tblPr/>
              <a:tblGrid>
                <a:gridCol w="1019160"/>
                <a:gridCol w="574560"/>
                <a:gridCol w="1368720"/>
                <a:gridCol w="108108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с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ыл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: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4572000" y="2637000"/>
            <a:ext cx="216000" cy="129672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4437000"/>
            <a:ext cx="216000" cy="12970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2720" y="2205000"/>
            <a:ext cx="433080" cy="4103640"/>
          </a:xfrm>
          <a:custGeom>
            <a:avLst/>
            <a:gdLst>
              <a:gd name="textAreaLeft" fmla="*/ 0 w 433080"/>
              <a:gd name="textAreaRight" fmla="*/ 156240 w 43308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79600" y="292428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79600" y="4869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08720" y="38606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ло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0200" y="882720"/>
            <a:ext cx="23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блица ток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C4857-EF2A-4AE0-B011-72DFECE3D4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6788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2 Формальные грамматики и распознавател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2.1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Формальный язык и формальная граммат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пустое конечное множество символов, используе-мых для записи предложений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0,1,2,3,4,5,6,7,8,9,+,-}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любая последовательность символов алфавита, распо-ложенных один за друг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о строк, включая пустую, составленных из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о строк за исключением пустой, составленных из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*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льным язык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алфави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ют произвольное подмножество множеств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можно задать перечислением и правилами проду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8B64E-3785-4CFA-9EEE-B920E0CAE8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2:16:54Z</dcterms:created>
  <dc:creator>Ivanova</dc:creator>
  <dc:description/>
  <dc:language>en-US</dc:language>
  <cp:lastModifiedBy>Галина Сергеевна Иванова</cp:lastModifiedBy>
  <dcterms:modified xsi:type="dcterms:W3CDTF">2009-01-22T14:04:55Z</dcterms:modified>
  <cp:revision>11</cp:revision>
  <dc:subject/>
  <dc:title>Глава 6  Основы конструирования компиляторов</dc:title>
</cp:coreProperties>
</file>