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08677-289A-4C10-8742-650514D9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AE215-7B77-4D62-94F2-AC0408B3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6EE0-92ED-4E87-AA12-4008C9A04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D0D5C-4871-4A2E-B89F-3C38B8E0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412-E813-43AA-85E8-295B7EBB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96B9-03C2-422D-A107-3539BE55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8DF4-753F-484B-B6F1-075650D1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468B-1196-4D1D-A487-474C5659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D628-5F97-4F80-8258-1310FE77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D2A9-2F26-4906-9264-AB6C9CEC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FBA8-C2C4-4F91-BA30-C195DF98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CFC84-732E-4643-9B2C-1C147F65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D76E-5606-4295-BC5C-3E4DE9FA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3A7E-6DB0-4192-8899-4CC58F58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E0A0-CFFF-457B-A522-C20405F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4AE7-90E4-4558-9471-BE2C70A1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C4DE-05E0-4655-B8F2-A114FAC0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AE53-5D8E-4CD8-A535-B1EA0AE3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5C9C1-B965-417B-8374-A024A613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60F97-A94A-463D-B06E-16585947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21A9-3FD2-47A7-AC6E-00A6604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4A00-4420-4327-8F19-74171950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5A982-6C0F-4CD5-910C-21748DAF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177D8-2D77-4AFF-A314-400265E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C50E-157D-43BE-9B4F-D7B0987E0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1645-DB26-4407-B444-13416BB723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4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 числового сопроцессо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доцен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стемное программное обесп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8F32-743E-4999-B402-0ECDF65FB1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ые случа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50920" y="966960"/>
          <a:ext cx="8713800" cy="5760720"/>
        </p:xfrm>
        <a:graphic>
          <a:graphicData uri="http://schemas.openxmlformats.org/drawingml/2006/table">
            <a:tbl>
              <a:tblPr/>
              <a:tblGrid>
                <a:gridCol w="504720"/>
                <a:gridCol w="2160720"/>
                <a:gridCol w="3868560"/>
                <a:gridCol w="2179800"/>
              </a:tblGrid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ту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а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ормализо-ванный опер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из операндов или результат – ненормализов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олжение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ение на н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литель равен нулю, а делимое не ноль и не бесконе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– бесконечность со знак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операции не представим в указанном формате (слишком большой по модул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– наибольшее числи или бесконе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иперепол-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операции не представим в указанном формате (слишком маленький по модул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– денормализо-ванное число или н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операции не представим в указанном формате (мало циф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л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951F5-D51B-45A6-8EBE-27FB7F87C8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собый случай 6 – недействительная оп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шибочные ситу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нуля на ну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ение и умножение бесконечнос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ножение бесконечности на ну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лечение корня квадратного из отрицательного чис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бесконечностей с разными знак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операция с нечис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грузка в непустой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читывание из пустого рег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никновение особого случая отмечается установкой в  соответствующего флага в слове состоян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установкой в 1 бита суммарной ошиб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проверяются маски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, если особый случай не маскирован, то выдается сигнал прерывания центральному процессо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71AB-5456-48B4-ACE7-A6EF26C868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управл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Control Wo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ы 0..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аска особых случаев – используется для запрета прерывания в случае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0 – обнаружена недействительная операц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1 – обнаружен ненормализованный операн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2 – зафиксировано деление ненулевого числа на но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3 – обнаружено перепол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4 – обнаружено антипереполнение (исчезновение поряд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5 – обнаружена потеря то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 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езер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ы 8-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определяют точность представления чисе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 – 24 бита; 10 – 53 бита; 11 – 64 бита (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ы 10-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дают режим округл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0 – к ближайшему целому; 01 – вниз; 10 – ввер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– отбрасывание дробной ч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 1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нтерпретация бесконечност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беззнаковая бесконечность; 1 – бесконечность со зна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C031-813C-47A3-B6FA-73AC5B2937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Wor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ы 0-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авливаются при наступлении особых случаев, если они не маскирова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0 – недействительная операц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1 – ненормализованный операн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2 – деление на но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3 – перепол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4 – антиперепол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5 – потеря точ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 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рушение стек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=1, C1=1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лнение ст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=1, C1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из пустого ст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 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уммарный флаг – ошиб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ы 8-10, 1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ды услов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8 – С0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; бит 9 – С1; бит 10 – С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бит 14 – С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ы 11-1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мер «верхнего» регистра сте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TOP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т 1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т занят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роцессо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287C-3FA3-4FFB-8DD9-DF25ABB5F8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3 Команды сопроцесс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команды делятся на 5 груп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и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цендентных опер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немонике приняты следующие соглаш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буква всег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бук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872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означает операцию с целым числом из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872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ю с десятичным числом из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2872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тсутствии этих букв – операция выполняется с вещественными числ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следняя или последняя бук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ывает обратный порядок операндов (для вычитания и дел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няя букв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дентифицирует команду, в заключении которой выполняется извлечение из ст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D8B8B-B9C6-4F8B-B24E-3AF910C16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зервирование памяти для команд сопроцесс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56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DW, WORD,S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2 б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D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WORD, SDWORD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ещественно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 би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DQ, QWORD, REAL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0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    DT, TBYTE, REAL1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борки из памяти сопроцессором проверяется тип зарезервированной памяти. Значением типа является длина в байтах, поэтому резервирование памяти должно совпадать с ее использов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бращение к памяти выполняется без указания имени поля, т.е. с адресацией через регистры, то должны использоваться специальные описател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d ptr;  dword ptr; qword ptr; t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D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WORD PT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2F8A-F672-401F-A644-70730A49C7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9145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оманды загрузк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исел 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(0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LD 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сточ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ещественных чисел из памяти или ст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ILD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сточ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целых чисел из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BLD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сточ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десятичных чисел из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D    ST(0)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копирует вершину с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D    QWORD PTR [BX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жает длинное веще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D   WORD PTR [DI]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жает целое чис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 Команды сохранения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ез извлечения из стека</a:t>
            </a:r>
            <a:r>
              <a:rPr b="0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S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прием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копирует вещественное число из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          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амять</a:t>
            </a:r>
            <a:r>
              <a:rPr b="0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IS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прием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копирует целое число из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T    ST(5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копирует число из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5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T    QWORD PTR [BX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T   WORD PTR [DI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524C-E3BC-4A95-8F7B-8E44BCE1A96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анды передачи данных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оманды записи в память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 извлечением из стека</a:t>
            </a:r>
            <a:r>
              <a:rPr b="0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STP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прием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перемещает знач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 памят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ещественное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ISTP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прием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перемещает знач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 памят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             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(цело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BSTP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прием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перемещает знач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 память (де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TP    ST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еремещение в регистр с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STP    QWORD PTR [BX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еремещение из стека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STP   P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еремещение из стека в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                                    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оманда обмен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XCH 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приемни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меняет местами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 приемник, если приемник не указан, то меняются местами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1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XCH    ST(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QRT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извлечение квадратного корня из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XCH    ST(5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20255-89AF-4327-BD99-33E06E9074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анды передачи данных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Команды загрузки констант</a:t>
            </a:r>
            <a:r>
              <a:rPr b="0" lang="ru-RU" sz="20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LDZ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ка нуля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L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ка еди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LDP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ка </a:t>
            </a:r>
            <a:r>
              <a:rPr b="1" i="1" lang="ru-RU" sz="2000" spc="-1" strike="noStrike">
                <a:solidFill>
                  <a:srgbClr val="0099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LDL2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ка двоичного логарифма десяти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LDLG2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ка десятичного логарифма дв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FLDLN2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ка натурального логарифма дв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57CA-B013-4A69-8566-A2F4AAC36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3.2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рифметические ком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856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ы арифметических коман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    [ST(1),ST]            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стековая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сегда с извлечением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    ST(i),S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p   ST,ST(i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регист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T(i),ST     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регистровая с извлеч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    [ST,]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вещественный операнд в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    [ST,]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целочисленный операнд в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=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+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=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-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=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-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=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*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=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/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V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=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&gt;/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ST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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+ST(1) -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 стеке только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DDP ST(5),ST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 ST(5)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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(5)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+ST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и извлеч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8843A-96B2-44B6-8279-13BDDF90CD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нятие сопроцесс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56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Числовой сопроцесс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ервоначально специализированный процессор, ориентированный на выполнение арифметических операций над вещественными числами с большой точность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процессор был реализован как отдельная микросхема, но начиная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8048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часть микросхемы процессора, а начиная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вой сопроцессор превращается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 операций с плавающей точкой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P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Соответственно, если в ранних моделях большое внимание уделялось синхронизации, то в последствии эта проблема перестала существ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вой сопроцессор выполняет только вычисления. Все действия по расшифровке команд, вычислению адресов и т.п. выполняет основной процессор. Вычислив адрес или считав данные, основной процессор выставляет их на шину, откуда их считывает сопроцесс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78626-E33E-4834-8C5D-9AEA2A816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жение двух чисе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511308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st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2000" y="2133720"/>
            <a:ext cx="1295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2000" y="1844640"/>
            <a:ext cx="1295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24720" y="20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4720" y="2060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24720" y="177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012000" y="2133720"/>
            <a:ext cx="1295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+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5AD9-EB68-4AA0-B796-544D634403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ополнительные арифметические ком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96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SO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звлечение квадратного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SCA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масштаб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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*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ST(1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1) –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цел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PR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ычисляет частичный оста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      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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(0) - q*ST(1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где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q –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целая часть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результата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/ST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PREM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ычисляет частичный остат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       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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(0) - q*ST(1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где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q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– ближайшее к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/ST(1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цел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PNDI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округление до цел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X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расцепляет число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0324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орядок, который заменяет число в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1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803240" indent="-2854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мантиссу, которая помещается в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B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олучение модуля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C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зменение знака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9D781-ECD7-491E-820B-9F70384A48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4.2. Построение график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=a*sqrt(x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980640"/>
            <a:ext cx="81378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buf DB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80 DUP (' 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?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4869000"/>
            <a:ext cx="1152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87280" y="4581360"/>
            <a:ext cx="115272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4581360"/>
            <a:ext cx="115272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87280" y="4581360"/>
            <a:ext cx="115272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*sq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24360" y="981000"/>
            <a:ext cx="5472000" cy="57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mov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d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CX,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e: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d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q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mu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,ST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stp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buf[EBX],'*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utb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buf[EBX],' '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op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799B-3676-48E2-9B7E-C7CF5E1092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3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анды срав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91458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COM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равнение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COMP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сравнение чисел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 одно извлеч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COMPP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сравнение чисел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 два извлечения из 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ICOM     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сравн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c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целым числ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ICOMP  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перанд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сравн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c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целым и извлечение из ст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UCOM   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сравн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c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регистр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UCOMP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сравн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c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регистром и извлеч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UCOMP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сравн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c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регистром и два извл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T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сравнение с нулем и замена источника на н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XA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анализ операн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39640" y="1268280"/>
          <a:ext cx="7848360" cy="2031840"/>
        </p:xfrm>
        <a:graphic>
          <a:graphicData uri="http://schemas.openxmlformats.org/drawingml/2006/table">
            <a:tbl>
              <a:tblPr/>
              <a:tblGrid>
                <a:gridCol w="3889080"/>
                <a:gridCol w="1060560"/>
                <a:gridCol w="954000"/>
                <a:gridCol w="936720"/>
                <a:gridCol w="10080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(0) &gt;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нд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л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(0) &lt;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нд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(0) =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нд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рав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498C-2DA4-484A-AD01-0C2338542C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рпретация кодов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50920" y="1125360"/>
          <a:ext cx="8640720" cy="5026320"/>
        </p:xfrm>
        <a:graphic>
          <a:graphicData uri="http://schemas.openxmlformats.org/drawingml/2006/table">
            <a:tbl>
              <a:tblPr/>
              <a:tblGrid>
                <a:gridCol w="2303280"/>
                <a:gridCol w="2089080"/>
                <a:gridCol w="2087640"/>
                <a:gridCol w="216072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0        С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рав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ь или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ифметические, сохра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редел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ление вверх или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числение частичного ост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2        Q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е биты остат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приведение. завершено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приведение не заверше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цендент-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редел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угление вверх или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рузки,об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пределе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уль или 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32400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* - различает переполнение и антипереполнение, если установле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B6162-0A69-476D-BCDF-00E273F2212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ботка кодов усло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856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рганизации переходов по заданным условиям, проверяемым сопроцессором, необходимо передать результаты проверки из сопроцессора основному процессору. Для эт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зу после сравнения код необходимо сохран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TSW A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сохранить слово состояния в регистр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ожно коды во флажковый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HF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команда копирует биты: С3 в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ZF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С2 в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PF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а С0 в С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ее для перехода можно использовать коман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, JNE, JA, JB, JB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а для проверки операндов нечисел – команд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можно использовать команд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 AX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станта ко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79280" y="4437000"/>
          <a:ext cx="5977080" cy="2087640"/>
        </p:xfrm>
        <a:graphic>
          <a:graphicData uri="http://schemas.openxmlformats.org/drawingml/2006/table">
            <a:tbl>
              <a:tblPr/>
              <a:tblGrid>
                <a:gridCol w="2928960"/>
                <a:gridCol w="1463760"/>
                <a:gridCol w="158436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а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&g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&lt;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 =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сравн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00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6300720" y="4437000"/>
            <a:ext cx="2843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P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?0&lt;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01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0111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1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10EDC-5B68-4310-8A66-EB50A23C36D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рка условия завершения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856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ка услов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p| &lt; ep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а из итерационного цик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..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d  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b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com  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stsw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   AX,0700h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ыделяем биты С0, С1, С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AH,1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300720" y="4724280"/>
            <a:ext cx="28432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OP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?0&lt;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11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000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867D-43A4-497E-A0CA-A5D7B4DD0E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5" dur="indefinite" restart="never" nodeType="tmRoot">
          <p:childTnLst>
            <p:seq>
              <p:cTn id="1396" dur="indefinite" nodeType="mainSeq">
                <p:childTnLst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3.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анды трансцендентных фу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гонометрические (угол задается в радиан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PT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1) =tg(ST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гд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-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3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4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 в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 –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еди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PAT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 ST = arctg(ST(1)/ST(0)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операнды из стека извл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S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 =sin(ST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гд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-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3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C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 =cos(ST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гд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-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3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4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SINC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1) =sin(ST)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гд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-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3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64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=cos(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логарифмические и показательные (выполняются по основанию два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2XM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 ST =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ST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-1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гд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-1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1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– обеспечивает более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                  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точны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начения вблизи 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YL2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 ST =ST(1)*log</a:t>
            </a:r>
            <a:r>
              <a:rPr b="1" i="1" lang="en-US" sz="20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гд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 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YL2XP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ST =ST(1)*log</a:t>
            </a:r>
            <a:r>
              <a:rPr b="1" i="1" lang="en-US" sz="20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(ST+1)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, гд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–(1-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½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/2)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ST </a:t>
            </a:r>
            <a:r>
              <a:rPr b="1" i="1" lang="en-US" sz="2000" spc="-1" strike="noStrike">
                <a:solidFill>
                  <a:srgbClr val="0099ff"/>
                </a:solidFill>
                <a:latin typeface="Symbol"/>
                <a:ea typeface="Symbol"/>
              </a:rPr>
              <a:t>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1-2</a:t>
            </a:r>
            <a:r>
              <a:rPr b="1" i="1" lang="en-US" sz="2000" spc="-1" strike="noStrike" baseline="30000">
                <a:solidFill>
                  <a:srgbClr val="0099ff"/>
                </a:solidFill>
                <a:latin typeface="Arial"/>
              </a:rPr>
              <a:t>½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/2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–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обеспечивает более точные значения вблизи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48C7-F4A8-4FBB-879E-E4026F235D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236000" y="2133720"/>
            <a:ext cx="1728720" cy="64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4.3 Вычисление корн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 степени из положительного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856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REAL4 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REAL4 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REAL4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9280" y="1197000"/>
          <a:ext cx="8828280" cy="85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197000"/>
                    <a:ext cx="882828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3132000" y="2852640"/>
            <a:ext cx="6408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fld1     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загрузили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    n 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загрузили 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div     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получ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1/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    a 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загрузили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yl2x     ;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получ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Courier New"/>
              </a:rPr>
              <a:t>1/n*log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2xm1     ;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получ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корень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1      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add      ; </a:t>
            </a:r>
            <a:r>
              <a:rPr b="1" i="1" lang="ru-RU" sz="1800" spc="-1" strike="noStrike">
                <a:solidFill>
                  <a:srgbClr val="0099ff"/>
                </a:solidFill>
                <a:latin typeface="Arial"/>
              </a:rPr>
              <a:t>получил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кор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tp  rez 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записали рез-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2484360" y="2133720"/>
          <a:ext cx="2613240" cy="68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133720"/>
                    <a:ext cx="26132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50920" y="22780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условии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076720" y="2205000"/>
          <a:ext cx="237492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2205000"/>
                    <a:ext cx="237492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7308720" y="2205000"/>
          <a:ext cx="158436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2205000"/>
                    <a:ext cx="1584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B780-A7C0-45D4-9323-C621493307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3.5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903600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емоники управляющих команд могут начинаться с FN (без ожидания и без проверки особых случаев) или F (с ожидание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яющие команды сопроцессо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STCW (FSTCW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; записать содержимое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W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 в опер. памя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LDCW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загрузить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W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из оперативной памя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STSW (FSTSW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записать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W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в оперативную памя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STSW AX (FSTSW A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записать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CW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 в A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CLEX (FCLEX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; c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бросить флаги особых случаев в 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W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и би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ES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INIT (FINIT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; инициализировать сопроцессо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яющий регистр – бесконечность со знаком, округление к ближайшему, расширенная точность, все особые случаи замаскиров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стр состояния – B=0 (бит занятости сброшен), код условия не определен, ST=ES=0, флаги особых случаев установлены в нул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гистр тегов – все поля регистра тегов содержат значение 11 (пустой регистр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6A10D-67A0-45C8-8761-AD0E090908E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1" dur="indefinite" restart="never" nodeType="tmRoot">
          <p:childTnLst>
            <p:seq>
              <p:cTn id="1582" dur="indefinite" nodeType="mainSeq">
                <p:childTnLst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1 Форматы представления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417672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слово: 15 бит+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е целое: 31 бит+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е целое: 63 бита+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акованное десятичное:          18 десятичных цифр +зн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е веществен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+8 бит (поря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127) +  23 бита мантис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е веществен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+11бит (порядок+1023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2 бита манти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ное вещественн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к+15бит (порядок+16383)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4 бита манти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981000"/>
            <a:ext cx="6494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981000"/>
            <a:ext cx="7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3280" y="1700280"/>
            <a:ext cx="136872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700280"/>
            <a:ext cx="7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2421000"/>
            <a:ext cx="2808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421000"/>
            <a:ext cx="7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3141720"/>
            <a:ext cx="2890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41720"/>
            <a:ext cx="7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200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3272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12000" y="314172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3933720"/>
            <a:ext cx="2890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3933720"/>
            <a:ext cx="7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3933720"/>
            <a:ext cx="1079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3280" y="479736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797360"/>
            <a:ext cx="7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797360"/>
            <a:ext cx="2448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43280" y="5805360"/>
            <a:ext cx="64944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5805360"/>
            <a:ext cx="7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5805360"/>
            <a:ext cx="287964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2097C-6F10-4951-B26E-0A393E092A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манды управл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8840" y="10825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STENV (FSTENV)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писать в память среду (содержимое всех регистров, кроме численных, в предопределенном формат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LDEN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ить среду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SAVE (FSAVE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писать полное состояние (дополнительно сохраняет содержимое численных регистро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RSTO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восстановить полное состоя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INCST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увеличить указатель стека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TOP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на 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DECST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уменьшить указатель стека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TOP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на 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FRE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освободить регист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NO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нет операции (не производит никаких действий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SETP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установить защищенный режим работы (переводит  сопроцессор в защищенный режим работы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CFE38-2A90-4996-A2EE-4A609EB200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1" dur="indefinite" restart="never" nodeType="tmRoot">
          <p:childTnLst>
            <p:seq>
              <p:cTn id="1632" dur="indefinite" nodeType="mainSeq">
                <p:childTnLst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4.4 Вычисление действительного корня из положительного числа. Снятие ограни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точные результаты функция 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 дает, если 0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ведении х в заданный интервал учитываем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+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L4 12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L4 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2   SWOR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05  REAL4 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      S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z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AL4 ?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n      S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j       SWOR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rl   SWORD ?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236000" y="1268280"/>
            <a:ext cx="1798560" cy="154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9164-832D-4405-914A-A32362822D0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7854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действительного корня из положительного числа. Снятие огранич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56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nit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нициализация со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еди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n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степени кор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di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олучение корня из степ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yl2x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олуче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1/n*log</a:t>
            </a:r>
            <a:r>
              <a:rPr b="1" i="1" lang="en-US" sz="20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t   ST(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копирование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1/n*log</a:t>
            </a:r>
            <a:r>
              <a:rPr b="1" i="1" lang="en-US" sz="2000" spc="-1" strike="noStrike" baseline="-25000">
                <a:solidFill>
                  <a:srgbClr val="0099ff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 в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ST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установка способа округ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tcw contr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чтение управляющего рег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f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r  contrl,0c00h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установка отбрасывания дробн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cw contrl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загрузка управляющего регис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rndint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отбрасывание дробн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115BC-453E-4B46-8649-C74868E5A5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675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действительного корня из положительного числа. Снятие огранич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56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st    stn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сохранение числа как целого в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 stn,0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сравнение с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z      cont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если 0, то переходим к вычисл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ub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получение 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cx,stn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   cx,1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определение степени дв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a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l     ax,cl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олучение степени дво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res,ax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d    res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результата из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tp    rezlt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сохранение в вещественном форм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CF8A6-A0E3-4105-85E6-2ACFC6D3BD3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действительного корня из положительного числа. Снятие огранич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856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оверяем величину оста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t:   fst     ST(1)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копирование дробн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d    const2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числ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mul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умножение остатка н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rndint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отбрасывание дробной ч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stp   pj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сохранение как цел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 pj,1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сравнение (остатка с 0,5) числа с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l      con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u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const05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вычитание из дробной части 0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ld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st2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числ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qrt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извлечение корня квадра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mu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lt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домножение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tp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lt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сохранение в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58674-3F8B-4CCA-98E8-74CA973164F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29840" y="54900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действительного корня из положительного числа. Снятие огранич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7280" y="1412640"/>
            <a:ext cx="8856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t1:  f2xm1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определение 2</a:t>
            </a:r>
            <a:r>
              <a:rPr b="1" i="1" lang="ru-RU" sz="2000" spc="-1" strike="noStrike" baseline="30000">
                <a:solidFill>
                  <a:srgbClr val="0099ff"/>
                </a:solidFill>
                <a:latin typeface="Arial"/>
              </a:rPr>
              <a:t>х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1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еди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add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корректировк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   rezlt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загрузка уже полученного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mul       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пере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tp  rezlt   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сохранение в памя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5FB53-526F-4095-B30D-8C0A907EBB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9840" y="33300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4.5 Преобразование выв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8728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одпрограмму нахождения суммы элементов массивов целых чисел, коротких вещественных и длинных веществе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60093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d60093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otw      DB    13,10,' SUM=0.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z      DB    '  ',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ONST100 SWORD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ARRAY    REAL8 1.E-1,2.E-1,3.E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d60093"/>
                </a:solidFill>
                <a:latin typeface="Courier New"/>
              </a:rPr>
              <a:t>         </a:t>
            </a:r>
            <a:r>
              <a:rPr b="1" lang="pt-BR" sz="2000" spc="-1" strike="noStrike">
                <a:solidFill>
                  <a:srgbClr val="d60093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ZD     DW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UM      REAL4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47CC8-05DA-496C-B8C7-B9E66AD109A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1" dur="indefinite" restart="never" nodeType="tmRoot">
          <p:childTnLst>
            <p:seq>
              <p:cTn id="1932" dur="indefinite" nodeType="mainSeq">
                <p:childTnLst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4.5 Преобразование вывода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  PROTO ptrARRAY:PTR REAL8,L:DWORD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:DWORD,ptrSUM:PTR REAL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SUMMA,OFFSET ARRAY,TYPE ARRA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NGTHOF ARRAY,OFFSET SU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d   CONST10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загрузка константы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d    SUM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загрузка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mul      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умно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stp  REZD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сохранение с округ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REZ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StdOut,ADDR ot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вывод 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CDE6-2C15-47B8-9097-000C7318859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9" dur="indefinite" restart="never" nodeType="tmRoot">
          <p:childTnLst>
            <p:seq>
              <p:cTn id="1970" dur="indefinite" nodeType="mainSeq">
                <p:childTnLst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fill="hold">
                      <p:stCondLst>
                        <p:cond delay="indefinite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29840" y="4759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4.5 Преобразование вывод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7280" y="1412640"/>
            <a:ext cx="8856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MMA    PROC  USES EAX EBX EC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trARRAY: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PT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REAL8,L:DWOR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N:DWORD,ptrSUM:</a:t>
            </a:r>
            <a:r>
              <a:rPr b="1" lang="ru-RU" sz="2000" spc="-1" strike="noStrike">
                <a:solidFill>
                  <a:srgbClr val="d60093"/>
                </a:solidFill>
                <a:latin typeface="Courier New"/>
              </a:rPr>
              <a:t>PT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REAL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EBX,ptr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EAX,L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размер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ECX,N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количество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ldz           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для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E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le  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add:    cmp   EA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n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iadd word ptr [EBX]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если числа -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A64B7-41E3-4638-83C8-746BFE25390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1" dur="indefinite" restart="never" nodeType="tmRoot">
          <p:childTnLst>
            <p:seq>
              <p:cTn id="2052" dur="indefinite" nodeType="mainSeq">
                <p:childTnLst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29840" y="475920"/>
            <a:ext cx="871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мер 4.5 Преобразование вывод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87280" y="1341360"/>
            <a:ext cx="8856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noint:   cmp   EAX,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nos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add  dword ptr [EBX]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если числа – дв.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nosng:   fadd  qword ptr [EBX]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если числа – тетра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next:    add   EB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op  l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one:    mov   EBX,ptr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stp  dword ptr [EBX] 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сохранение результата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MMA    endp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A70F-4037-406B-A648-2749396C81D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5" dur="indefinite" restart="never" nodeType="tmRoot">
          <p:childTnLst>
            <p:seq>
              <p:cTn id="2106" dur="indefinite" nodeType="mainSeq">
                <p:childTnLst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ление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7280" y="980640"/>
            <a:ext cx="885672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ые числа представляются также как для обычного процес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ые – в прямом к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ицательные – в дополнительном к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ль – положительный (все биты нулевы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+(-1)=4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0000000000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111111111111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00000000000100</a:t>
            </a: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55280" y="4365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3789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5661000"/>
            <a:ext cx="1584360" cy="432000"/>
          </a:xfrm>
          <a:prstGeom prst="wedgeRoundRectCallout">
            <a:avLst>
              <a:gd name="adj1" fmla="val -54407"/>
              <a:gd name="adj2" fmla="val -25441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BFC9-2D0C-4A70-A09E-E9422998379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4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Функции преобразования вещественных чисел в строку и обратн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rToFloat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call publi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zIn: PTR BYTE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адрес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fpout: PTR QWORD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адрес</a:t>
            </a:r>
            <a:r>
              <a:rPr b="1" i="1" lang="en-US" sz="2000" spc="-1" strike="noStrike">
                <a:solidFill>
                  <a:srgbClr val="0099ff"/>
                </a:solidFill>
                <a:latin typeface="Arial"/>
              </a:rPr>
              <a:t> QWORD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буфер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строка содержит неверный символ, то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вращается его адр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oatToStr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 public USES esi ed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pin: QWOR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адрес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zDbl: PTR 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адрес строки (20 бай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oatToStr2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 public USES esi ed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pin: QWORD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адрес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zDbl: PTR 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адрес строки (20 бай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ToStr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возможности использует нормальную нотацию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3A63A-CE89-464F-A84E-5C32CE0FF7A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E9E3-8E1A-4807-97B4-6339904F8CA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ставление веществен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енные числа представляются в формате с плавающей точ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0735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0735*2 = 0.147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1470*2 = 0.294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2940*2 = 0.588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5880*2 = 1.176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1760*2 = 0.352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3520*2 = 0.704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.7040*2 = 1.408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кое вещ.: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0111101 1        00101101 00000000 00.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3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        9       6    8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ное вещ.: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0111111 1011     00101101 00000000 00.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ширенное: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0111111 11111011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010110 10000000 00.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38480" y="1628640"/>
            <a:ext cx="3012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0.0001001011010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72560" y="1628640"/>
            <a:ext cx="2884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1.001011010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urier New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76720" y="2205000"/>
            <a:ext cx="40672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4080*2 = 0.816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8160*2 = 1.63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6320*2 = 1.264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2640*2 = 0.528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5280*2 = 1.056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0560*2 = 0.112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.1120*2 = 0.224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2797920" y="4843800"/>
            <a:ext cx="142920" cy="770040"/>
          </a:xfrm>
          <a:custGeom>
            <a:avLst/>
            <a:gdLst>
              <a:gd name="textAreaLeft" fmla="*/ 91440 w 142920"/>
              <a:gd name="textAreaRight" fmla="*/ 143280 w 142920"/>
              <a:gd name="textAreaTop" fmla="*/ 19800 h 770040"/>
              <a:gd name="textAreaBottom" fmla="*/ 750240 h 77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3456000" y="4905000"/>
            <a:ext cx="142920" cy="647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4824360" y="4400280"/>
            <a:ext cx="142920" cy="1800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6047640" y="5048640"/>
            <a:ext cx="144360" cy="50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12960 h 505080"/>
              <a:gd name="textAreaBottom" fmla="*/ 492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6731640" y="494064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53B3-527E-40FA-A80D-A3DD36FB9D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очность представления вещественн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60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щественные числа представляются в машине прибли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.79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-2.23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0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2.23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08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9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чем точность представления чисел в разных диапазонах различна: между любыми соседними степенями двух находится одинаковое количество точно представимых чисел, например, между 2 и 4 и между 65536 и 13107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нако целые числа из диапазона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едставляются точно. При этом 0 представляется с нулевой характеристикой и нулевой мантиссой (специальное значение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0000000 00000000 000000000 0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2720" y="1414440"/>
            <a:ext cx="7561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1341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84720" y="1341360"/>
            <a:ext cx="144360" cy="1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756720" y="14144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08360" y="148572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4428720" y="1485720"/>
            <a:ext cx="57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8029440" y="148572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174160" y="1341360"/>
            <a:ext cx="431640" cy="1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080" y="1341360"/>
            <a:ext cx="431640" cy="144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1BF36-2113-41C8-9773-9C5FE6E0BA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ециальные численные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специальным значениям кроме нуля относя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ормализованные вещественные числа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тельная и положительная бесконеч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чи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пределен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ддерживаемые форма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ия специальных значений зарезервированы минимальная 000..00 и максимальная 111..11 характерис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1441-1CB1-4D7A-9309-164544ED0A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ециальные численные знач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нормализованные вещественные чис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числа, значение которых меньше минимально представимого в нормализованном виде в формате. Число имеет нулевую характеристику и ненулевую мантиссу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0000000 00000100 00000111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сконе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дируются с максимальным значением характеристики 111..11 и мантиссой равной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111111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000000 00000000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111111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000000 00000000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чис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дставляются с любым знаком, максимальной характеристикой и любой мантиссой кроме 1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111111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000100 00000000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пределенность (результат недействительной операции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1111111 10000000 00000000 00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9E84-0521-4627-BB38-68BB35374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граммная модел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940000" y="764640"/>
            <a:ext cx="320364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кольцевую структуру. Вершина стека определяется пол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 состоя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ег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2 бита на регистр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0 – в регистре не нулевое действительное числ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1 – в регистре истинный нол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 – в регистре не число или бесконеч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 – регистр пу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1393920"/>
            <a:ext cx="273672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нт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1960" y="139212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я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1720" y="1386000"/>
            <a:ext cx="28728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4840" y="105264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9    78       64 63                            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1609560"/>
            <a:ext cx="2736720" cy="21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1960" y="160812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1720" y="1601640"/>
            <a:ext cx="287280" cy="21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5280" y="1825560"/>
            <a:ext cx="273672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1960" y="182412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1720" y="1817640"/>
            <a:ext cx="28728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35280" y="2041560"/>
            <a:ext cx="273672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1960" y="2039760"/>
            <a:ext cx="1008000" cy="21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1720" y="2033640"/>
            <a:ext cx="28728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257560"/>
            <a:ext cx="273672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1960" y="225576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1720" y="2249640"/>
            <a:ext cx="28728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35280" y="2473200"/>
            <a:ext cx="273672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60" y="247176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1720" y="2465280"/>
            <a:ext cx="28728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2689200"/>
            <a:ext cx="273672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1960" y="268776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1720" y="2681280"/>
            <a:ext cx="28728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5280" y="2905200"/>
            <a:ext cx="273672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1960" y="2903400"/>
            <a:ext cx="1008000" cy="21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1720" y="2897280"/>
            <a:ext cx="28728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393920"/>
            <a:ext cx="647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139392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1609560"/>
            <a:ext cx="1008000" cy="217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182556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204156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225756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88000" y="247320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268920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2905200"/>
            <a:ext cx="1008000" cy="217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б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645000"/>
            <a:ext cx="151272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328464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350028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стр 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5640" y="4221000"/>
            <a:ext cx="151272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11280" y="414972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стр 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4797360"/>
            <a:ext cx="151272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11280" y="479736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азатель коман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805360"/>
            <a:ext cx="151272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11280" y="558972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казатель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5587920"/>
            <a:ext cx="151272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011560"/>
            <a:ext cx="151272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32360" y="76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76500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гистровый 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720" y="1052640"/>
            <a:ext cx="9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4797360"/>
            <a:ext cx="4248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казатель команд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одержит адрес команды, вызвавшей особый случай, и 11 бит коман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Указатель да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адрес операнда (если использовался) команды, вызвавшей особый случа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4360" y="450864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4360" y="530064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8D06-6663-4C20-BB8D-7C0242AAA9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0:37:13Z</dcterms:created>
  <dc:creator>Ivanova</dc:creator>
  <dc:description/>
  <dc:language>en-US</dc:language>
  <cp:lastModifiedBy>Галина Сергеевна Иванова</cp:lastModifiedBy>
  <dcterms:modified xsi:type="dcterms:W3CDTF">2009-01-22T14:04:04Z</dcterms:modified>
  <cp:revision>12</cp:revision>
  <dc:subject/>
  <dc:title>Глава 5   Программирование числового сопроцессора</dc:title>
</cp:coreProperties>
</file>